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4F4-EC55-42C4-B28B-50B35EF5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15D-3FA0-4713-A7B4-36E69185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5C7-0C2D-4C4D-A304-1A0023C5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2F3-BD26-4244-903E-996A7404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C75C-F392-4438-A614-E689E179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3A44-62E9-4B63-B91B-8C2AB85D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F317-2510-4FC4-AB4C-33A76D4D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E913-6DAA-4480-A67F-22CD6C64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B31D-4969-46E2-ABF8-CC8A3714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8DD2-23C1-434F-98EA-FFE9E88C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DD78-9D38-4565-B080-2275D7C9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C0A-ED43-426E-8026-A214BE18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B5D6-BADF-4402-97A8-4B78531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F2CA-073C-4A62-94B7-1A49CE7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36A6-3669-448D-A447-BF9B1766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C6D7-9BC8-4148-83E2-DD4C4364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21F3-E139-49C5-A1FE-ADACDD0B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9BC-028F-4BBF-BA9B-83F3461C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915-87A6-48BB-8343-4BEC70E9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940-6DF0-42B1-B1F6-32C29FA9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AF6-DF41-40F7-BD78-7AA92E8C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4A1-24E6-4DB8-A570-4678A634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0A3-9894-44A8-BF4E-FC72FE3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298-D53F-4750-BAA2-7734DAE2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3DD1-864B-4207-90F0-6C434BEBDD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42C7-303D-457F-B554-76306628B3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РИМЕРНЫЕ ТРЕБОВАНИЯ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к программам дополнительного образования детей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Письмо Департамента молодежной  политики,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воспитания и социальной защиты детей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от  11  декабря 2006 г. № 06-1844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етодическое обеспечение программы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еспечение программы методическими видами продукции (разработки игр, бесед, походов, экскурсий, конкурсов, конференций и т.д.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комендации по проведению лабораторных и практических работ, по постановке экспериментов или опытов и т.д.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идактический и лекционный материалы, методики по исследовательской работе, тематика опытнической или исследовательской работы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писок использованной литературы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итература, используемая педагогом для разработки программы и организации образовательного процесс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итература, рекомендованная для детей и родителей по данной программ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иды образовательных програм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771280" y="2707920"/>
            <a:ext cx="4381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Традиционны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Инновационны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радиционная програм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Традиционная программа может быть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адаптированн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модифицированн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ограмма считается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адаптированн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если она ис­пользуется без изменения в содержании и методике, но с некоторыми поправками в последовательности изложения материалов и количестве часов, отводимых на изучение той или иной тем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ограмма считается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модифицированн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если в ее основе лежит одна или несколько традиционных программ одного предмета и содержательная и методическая части в целом отличаются от традицион­ных на 10-15%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новационная програм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вторизованна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программа может быть признана таковой, если она содержит не менее 50% новизны только в содержан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грамма является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вторской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если она отличается от существующих содержанием, методикой и систе­мой основных принципов преподавания не менее чем на 50%, прошла предварительную апробацию и имеет положительные результаты обуч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аправленности образовательных программ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42920" y="2565000"/>
            <a:ext cx="495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учно-техническ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портивно-техническ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изкультурно-спортивн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удожественн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уристско-краеведческ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колого-биологическ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енно-патриотическа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циально-педагогическая;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циально-экономическа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естественно-научна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фикация програм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уровням осво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образовательным област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формам реал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возраст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вид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срокам реализ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форме организации содержания и процесса педагогической де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половому признак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ритерии оценки образовательных программ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(краевой конкурс авторских программ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оответствие содержания и оформления требованиям конкурса- 5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ктуальность - 5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овизна - 15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тегрированность с общим образованием - 10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декватность   целей,   задач,   содержания   системе   оценки  и   предъявления результатов - 20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труктура программы, логичность, ясность изложения - 10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озможность    использования    в    практике    дополнительного    образования, социальная значимость - 15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оздание    условий    для    личностного,    социального,    профессионального самоопределения - 10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работанность методического сопровождения - 10 б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Недостатки образовательных программ,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тендующих на статус авторски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е образовательная программа (обобщение опыта, программа УД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труктура программы не соответствует современным требования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Много лишней информ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е четкое обозначение новизн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Тривиальные термин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ет соответствия целей, задач, диагности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азвание должно отражать суть програм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ыписывание концептуальной части в соответствии с требованиями (журнал «Дополнительное образование» № 8, 2007 год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бедительность автор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держание образования должно быть ориентировано н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беспечение самоопределения личности, создание условий для ее самореализац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формирование у обучающегося адекватной современному уровню знаний и уровню образовательной программы (ступени обучения) картины мир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теграцию личности в национальную и мировую культуру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формирование человека и гражданина, интегрированного в современное ему общество и нацеленного на совершенствование этого обществ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воспроизводство и развитие кадрового потенциала общест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Содержание дополнительных образовательных программ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должно </a:t>
            </a: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соответствовать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остижениям мировой культуры, российским традициям, культурно-национальным особенностям регион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оответствующему уровню образования (дошкольному, начальному общему, основному общему, среднему (пол­ному) общему образованию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аправленностям дополнительных образовательных программ (научно-технической, спортивно-технической, художественной, физкультурно-спортивной, туристско-краеведческой, эколого-биологической, военно-патрио­тической, социально-педагогической, социально-эконо­мической, естественно-научно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овременным образовательным технологиям, отраженным в принципах обучения; формах и методах обучения;  методах контроля и управления образовательным процессом; средствах обуче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Содержание дополнительных образовательных программ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олжно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быть направлено н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оздание условий для развития личности ребенк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азвитие мотивации личности ребенка к познанию и творчеству;          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беспечение эмоционального благополучия ребенк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иобщение обучающихся к общечеловеческим ценностям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офилактику асоциального повед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оздание условий для социального, культурного и про­фессионального самоопределения, творческой самореализации личности ребенка, его интеграции в системе мировой и отечественной культур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елостность процесса психического и физического, умственного и духовного развития личности ребенк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крепление психического и физического здоровья ребенк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заимодействие педагога дополнительного образования с семь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Структура программы дополнительного образования де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итульный лис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яснительную записк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чебно-тематический пла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держание изучаемого кур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тодическое обеспечение дополнительной образова­тельной программ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писок литерат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итульный ли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именование образовательного учреж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де, когда и кем утверждена дополнительная образовательная программ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звание программ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раст детей, на которых рассчитана программ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рок реализ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ИО, должность автора(ов) программ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звание города, населенного пункта, в котором реализуется программ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од разработки дополнительной образовательной програм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яснительная запис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правленность программ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овизну, актуальность, педагогическую целесообраз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цель и задачи программ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тличительные особенности данной программы от уже существующих образовательных программ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озраст детей, участвующих в реализации программ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роки реализации (продолжительность образовательного процесса, этапы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формы и режим занят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жидаемые результаты и способы определения их результатив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формы подведения итогов реализации дополнительной образовательной программы (выставки, фестивали, соревнования, учебно-исследовательские конференции и т.д.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Учебно-тематический пла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еречень разделов, те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личество часов по каждой теме с разбивкой на теоретические и практические виды занят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держание програм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тразить через краткое описание тем (теоретических и практических видов занятий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1:21:34Z</dcterms:created>
  <dc:creator>do</dc:creator>
  <dc:description/>
  <dc:language>en-US</dc:language>
  <cp:lastModifiedBy>do</cp:lastModifiedBy>
  <dcterms:modified xsi:type="dcterms:W3CDTF">2008-10-13T11:43:33Z</dcterms:modified>
  <cp:revision>3</cp:revision>
  <dc:subject/>
  <dc:title>ПРИМЕРНЫЕ ТРЕБОВАНИЯ к программам дополнительного образования детей</dc:title>
</cp:coreProperties>
</file>