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1DCE-7889-41C4-84A7-416242098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D795-8B8B-4B7C-B356-4C51FB3B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AACE8-374C-4417-A7B9-FC80CE09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F2293-032A-43A5-9FD9-D561A56A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CDE8C-9B45-4B93-A2BC-F32D0400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35613-4277-4102-82B0-316DA4D1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197D5-C245-472E-9131-31D56F10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0FB8C-DD89-4E6F-851F-404E711E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CAA3B-BBF1-4993-A7C7-CCFC7AC2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96C9F-AC52-4B0B-99D9-7C5C8825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E1B60-02C4-4AFC-85C2-89CE0ECB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82C78-1052-40C6-A19B-3254DFA38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3923-82E8-4053-9DB7-B32901797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DB008-8129-4A1E-88B4-4AD043B9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AC1BCE-F31A-4955-A5BC-B50FB58D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4ECED-CDF7-4BC7-B351-6A42BF43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D7832-65BD-4762-A10C-9021A73D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A493B-02B0-42E3-9CA4-1265D015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594BE-785E-4284-8231-EADE53B0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0C2D6F-F5A1-4ED3-BBE2-A31004F5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9F518C-409A-42DA-954D-C9B1201A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9040E-366E-4BB4-8F2F-EC3CEA5A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497EC6-BD22-4F1F-8A28-853A434E7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E860-8961-4B10-AD2B-F957A56A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6390B-CD09-492E-BAD9-50F0A0DE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E5F2A-C970-4235-95A6-6449C6885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ECE59-BA9F-4E73-BCBB-218A9A0E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51725-4CD3-4014-962C-49FD040E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C516B-0CE8-431B-BF86-0A51064E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72B87-22EB-4365-970C-01E5E669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7A2E8-CEAD-4A2A-AB58-19EA62E4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AD0F7-B67D-4919-BEA7-1CB124CD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A74B8-9C22-4332-B539-81CD08FE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743B3-BAD1-4A7E-9FE8-C8EA6273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3402-F193-4D03-BC02-6488F2DC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AEF88-5584-4382-A781-76FEB8D7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D9DA0-015A-4E2E-BF45-D01182C93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5437D-8714-4199-998D-17CD21E3E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C59F-B4E8-4749-8769-29512491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0B2B-8FDA-4529-90A3-E8BD049D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A920-BBA6-4C6C-81AF-3B293C4F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B3A4-E591-48B6-A9BF-54B6D7D1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DC1A-2AD1-4D81-8E2A-547E8082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D014-81A0-4915-B475-1C8B864B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0F17-D9F0-493A-9D56-663100F9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59BE-9C69-4D2A-9B1C-EE304FAC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67F3-A1CF-4715-9524-0E9260F1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A260-88B5-4DEC-9C1C-C2D5B0C6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6E1C-7F25-4CA9-8E70-169C4F52C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F71D-5CFE-4794-AD15-B4B6F9EA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E3945-8F9B-44C1-8AF2-4B714CD58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078E6-6464-4875-906C-ABAAA16B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8066A-1C7B-4378-845D-E8E8C816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1B299-2F67-4661-93DF-FA47D016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D35DA-7B52-43FA-A6A6-49DE8623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2A0C-941E-4279-8975-FF40ABD7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F1A9A-324A-4979-8C7D-C19A2070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C044D-159C-4210-B09D-9EFDC522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184C6-36D9-4D66-BB17-76E53E61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CFF6A-3504-4063-8B9D-D3784B18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A49E5-2B32-4E86-9EB5-00BF774C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9EDEE-F00F-4302-B306-5B5C89CB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DC5CB-4B7B-4AEE-A3AE-3022DB53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76AD4-890B-4680-8753-AD9EBA13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EA28C-AEB6-4150-9327-D61E6C2F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07AD2-5B3E-403A-A2A9-5866E2F5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9CC3-6F4A-45CC-B1F4-4182B7C4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54D1A-CEE9-4E10-AD6E-A0B8F3BD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D735C-1F52-42D1-9DDD-7C5108A0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DCAFC-4CFA-421F-AE85-650E17DE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D1F91-D630-44E6-A4F3-27A66B7D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CB599-17B9-44B7-8143-88731065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01CEE-88D1-4C0D-8B17-B6429874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64B00-EC1E-4253-9EF9-5C8BEB84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23D32-6D19-4965-9F78-6C7978B7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DD0BD-7028-4911-9260-50C5324B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1CD4E-8EB0-4775-887D-2A98D00BF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6B03-9251-4E5C-99EC-29FFBAAB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D0616-A55A-4726-92CD-61867651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8E7DA-733B-4237-A2BE-5B90A348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1490F-F7F1-4C1E-A064-A3DA61D8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BAA21-686D-4BB7-B504-AD362442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B4BDD-A71E-4B29-B3F8-FBC75C2B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74749-445B-4DE4-88F7-F947BD71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7CF44-E0E4-458A-9DB3-69709DFF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018EF-9EAF-4438-BAE1-87D05F20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811A3-A835-403B-B57B-08F26448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DD46E-07B7-4324-8138-EB473694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468C-5751-4F67-AF44-463EB5F3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B5D64-8BC2-4FEC-9BD7-FC781F152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EE7A0-2039-4DAA-A42D-40035AF5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BB1A3-B7B5-4D15-9B91-5613F86F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801E8-D4A7-449D-B888-42BBD36F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3F702-D29D-4D9D-A4E3-F2C75BE0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657FF-5F27-4354-92BE-76F1E6B8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7EBB6-15E8-4CB2-AAA8-4A9A9563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56058-F534-4868-B9E1-D02B2B2D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3EA5D-FAE6-4212-A1AC-B4426309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63B85-13F3-438A-8D7A-1E7480D4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3899-2248-42DF-9345-FDC63A87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06D01-9D46-409A-B619-78A4F005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1F11A-94D0-4A53-8E13-47C1A239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C12F7-102F-4C23-B094-D20A0AD81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06E44-90E8-4989-9E6B-9F34DACF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AB884-BD85-47E3-9033-AD5E494E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8DCC9-892B-4362-B477-FCFC9380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295AD-A7D8-4B4C-B764-083E6065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23D31-464E-4C04-BCD1-D694C683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F3ED3-984B-464E-8885-F758B439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76050-30BF-4222-8F51-BE1150D4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B495-2BCA-4759-AE23-4127C3E5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F3AAA-2A3D-45A4-B028-C80AD043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99ABB-1B5B-47C3-9F7B-9D9290F5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C9884-01AB-4FD9-8354-C34A663F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0C75D-5B7B-4BAE-B925-A8C40C7C4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D4D10-BA17-4908-8F3C-53888A67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4EDC5-CB09-4827-9F7D-332B8539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E25B2-1DE3-4F89-8E05-FE279692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37117-C4A6-4938-B19F-284384C5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04A31-AFDB-4B8E-819B-C080D5AC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A2DCC-5D97-46FF-A86B-709B24BA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5893-0938-4CF8-98AC-1B6BA8A9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8DB35-AD6C-4C21-A31A-675B0F52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26015-4C8F-4C6B-B5F2-6657D50F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2A879-BDA5-44B3-89BE-D85D25E1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6CF21-05A7-47AC-97B9-0FA3CA38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986B2-FAC1-415C-83E9-8BD56621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6C481-35E2-4FA2-8C65-E5668435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82054-53D4-4289-A96E-2939CF9C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F03BB-51F3-43C6-96D1-515D25D9A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4D758-C33F-4D45-A0AE-48848384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E29C3-24C0-4ECF-8B80-4BF26A59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EA2D-1567-4345-B892-8A12E48256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601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605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630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5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695F-01AA-45CA-8182-BF504A4F362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2D28-F9F8-432D-8D45-D14D6FFD7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C4CC-18A5-4C99-9CEB-459604FEEE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95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2833-DB61-4D38-A73C-24E2B2D5060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52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1E2D-B3D7-40CD-91DD-23C230CE934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208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210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215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221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225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9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74E9-5A54-4554-AB59-E63CF743E39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92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93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307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311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315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319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323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DA3B-754F-4398-A90C-374614C1B20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42B7-5A9A-4750-B691-0430F695483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381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563A-AAE7-4F72-B2AF-E4498BB4235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454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523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27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552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B396-B6E2-48AA-A428-E5AE577E5C3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66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80880" y="2057040"/>
            <a:ext cx="82296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Arial"/>
              </a:rPr>
              <a:t>Толерантный урок как средство формирования гражданских качеств учащих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66"/>
                </a:solidFill>
                <a:latin typeface="Verdana"/>
              </a:rPr>
              <a:t>Проект «Толерантный урок</a:t>
            </a: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»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0" name=""/>
          <p:cNvSpPr/>
          <p:nvPr/>
        </p:nvSpPr>
        <p:spPr>
          <a:xfrm>
            <a:off x="766440" y="1752480"/>
            <a:ext cx="237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альная ситу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638680" y="1676520"/>
            <a:ext cx="25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деальная ситу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41720" y="2246400"/>
            <a:ext cx="348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ниевый подход, отсут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ятельностного подх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013360" y="2246400"/>
            <a:ext cx="930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701680" y="224640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леран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16960" y="3084480"/>
            <a:ext cx="402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наличии различных технолог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ок все же носит репродуктив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18400" y="4075200"/>
            <a:ext cx="47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иентация на отметку, а не на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34240" y="4568760"/>
            <a:ext cx="523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фликты ученик-учени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еник-учитель. Причины конфликт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ш-не наш; несогласие с поставле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меткой; неспособность ребенка объектив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ценить свой результат относительно сам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бя; нежелание учителя вникнуть в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бенка, связанные с усвоением предме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776920" y="3008160"/>
            <a:ext cx="29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ственность за с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852160" y="392256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ициа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17800" y="2438280"/>
            <a:ext cx="83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ормирование толерантной личности ученика и учителя чере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хнологии толерантного уро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304920" y="228600"/>
            <a:ext cx="8001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Образ толерантной личности сочетает психолого – этические качества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оммуникабель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важение чужого мн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ценносте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ульту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ефлексивность (знание личностных особенностей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гибк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веренность в себе (адекватная оценка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амооблада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ариативность (многомерный подход к оценке мир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Определение толерант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353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отрудничество, дух партнерст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Готовность мириться с чужим мнение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Уважение прав други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инятие другого таким, какой он ес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пособность поставить себя на место другог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Уважение права быть ины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изнание многообраз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Терпимость к чужим мнениям, верованиям и поведению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тказ от доминирования, причинения вреда и насил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"/>
          <p:cNvGrpSpPr/>
          <p:nvPr/>
        </p:nvGrpSpPr>
        <p:grpSpPr>
          <a:xfrm>
            <a:off x="1619280" y="189000"/>
            <a:ext cx="6135120" cy="6453000"/>
            <a:chOff x="1619280" y="189000"/>
            <a:chExt cx="6135120" cy="6453000"/>
          </a:xfrm>
        </p:grpSpPr>
        <p:sp>
          <p:nvSpPr>
            <p:cNvPr id="736" name=""/>
            <p:cNvSpPr/>
            <p:nvPr/>
          </p:nvSpPr>
          <p:spPr>
            <a:xfrm>
              <a:off x="2658960" y="1371960"/>
              <a:ext cx="4055400" cy="419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114800" y="2877840"/>
              <a:ext cx="935640" cy="96768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426920" y="1694520"/>
              <a:ext cx="831600" cy="86040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362920" y="2124720"/>
              <a:ext cx="831600" cy="86040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674680" y="3200400"/>
              <a:ext cx="831600" cy="86040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842720" y="4383360"/>
              <a:ext cx="831600" cy="86040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699000" y="4275720"/>
              <a:ext cx="831600" cy="86040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867040" y="3200400"/>
              <a:ext cx="831600" cy="86040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386880" y="1909800"/>
              <a:ext cx="831600" cy="86040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674680" y="834120"/>
              <a:ext cx="831600" cy="86040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10680" y="1694520"/>
              <a:ext cx="831600" cy="86040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922800" y="3308040"/>
              <a:ext cx="831600" cy="86040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402960" y="4813560"/>
              <a:ext cx="831600" cy="86040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26920" y="5781600"/>
              <a:ext cx="831600" cy="86040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450880" y="5243760"/>
              <a:ext cx="831600" cy="86040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619280" y="3415320"/>
              <a:ext cx="831600" cy="86040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827000" y="1264320"/>
              <a:ext cx="831600" cy="86040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178800" y="296640"/>
              <a:ext cx="831600" cy="86040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530960" y="189000"/>
              <a:ext cx="831600" cy="860400"/>
            </a:xfrm>
            <a:prstGeom prst="smileyFace">
              <a:avLst>
                <a:gd name="adj" fmla="val 9282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554920" y="1909800"/>
              <a:ext cx="83160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2450880" y="3630240"/>
              <a:ext cx="41580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3178800" y="4920840"/>
              <a:ext cx="519840" cy="43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4946760" y="5243400"/>
              <a:ext cx="207720" cy="53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6506640" y="3630240"/>
              <a:ext cx="41580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6194880" y="2124720"/>
              <a:ext cx="41580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674680" y="4921200"/>
              <a:ext cx="72792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5258880" y="1479600"/>
              <a:ext cx="41580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594960" y="1157040"/>
              <a:ext cx="104040" cy="75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4842360" y="1049400"/>
              <a:ext cx="104040" cy="64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2035080" y="2124720"/>
              <a:ext cx="103680" cy="12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138760" y="4275720"/>
              <a:ext cx="415800" cy="9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 flipV="1">
              <a:off x="3386880" y="5781600"/>
              <a:ext cx="93600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5362920" y="5459040"/>
              <a:ext cx="1039680" cy="64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7026480" y="4275720"/>
              <a:ext cx="207720" cy="53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 flipV="1">
              <a:off x="7234920" y="2554560"/>
              <a:ext cx="103680" cy="75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506640" y="1479600"/>
              <a:ext cx="20772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466600" y="726840"/>
              <a:ext cx="20772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4010760" y="511560"/>
              <a:ext cx="519840" cy="1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2554560" y="834120"/>
              <a:ext cx="623880" cy="53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0" y="54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6" name=""/>
          <p:cNvGraphicFramePr/>
          <p:nvPr/>
        </p:nvGraphicFramePr>
        <p:xfrm>
          <a:off x="762120" y="0"/>
          <a:ext cx="7086600" cy="6770520"/>
        </p:xfrm>
        <a:graphic>
          <a:graphicData uri="http://schemas.openxmlformats.org/drawingml/2006/table">
            <a:tbl>
              <a:tblPr/>
              <a:tblGrid>
                <a:gridCol w="3541680"/>
                <a:gridCol w="3544920"/>
              </a:tblGrid>
              <a:tr h="70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Содерж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на уроке нескольких точек зрения (проблемного вопроса)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 формулируют (аргументируют) свою Т.З. Умеют вступить в дискусси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разноуровневых зада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влетворённость своим результатом, желание попробовать более высок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творческих заданий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жение собственной индивидуа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Технологии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местная деятельность на урок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мент согласования цели и задач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критического мыш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я слышать и задавать вопросы, высказывать отношение к услышанному или прочитанн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стно-ориентированное обу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-субъект деятельност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Культура организации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вое пространство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ние и соблюдение прав и обязанностей учителя и ученика на уроке. Отсутствие взаимных жалоб; конфлик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7" name=""/>
          <p:cNvSpPr/>
          <p:nvPr/>
        </p:nvSpPr>
        <p:spPr>
          <a:xfrm>
            <a:off x="1399320" y="0"/>
            <a:ext cx="51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Критерии                                      Показат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oman</cp:lastModifiedBy>
  <dcterms:modified xsi:type="dcterms:W3CDTF">2007-04-13T16:09:4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