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F60-DDBA-4179-A430-34BC44CB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E41-B2C6-497D-9215-DCA7B9F6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5CCA-CE68-486E-AC71-8C2A2AE7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211-94B9-4C9F-AD24-70132DC4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9D06-4632-48F6-9B5D-48301128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A226-A289-4C59-9682-8AC56032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8E18-F1CD-4653-8820-AF67480D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FFAB-B923-4A71-BE00-E9A4DACC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CA4D-2B10-4EFB-960B-ECB9B9C5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F787-F556-4825-9AD4-7C6E2311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9591-8CD6-419E-BE41-D804A898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114-544C-40EB-A022-89F105AC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36B2-5FF1-4315-8D9A-023B6B1D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8918-4237-4C90-BF07-126AFE1A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58C2-6CF8-4C14-9E38-8888D1E3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ED38-19C0-4C03-ABAE-2315EFB5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82FD-17EB-4F30-862D-C5EF5A9F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92D-253D-4D92-956C-83C71E1F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8E6-83E2-4499-AA77-EF35667D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90E-BBFD-48D1-82F0-082BFB16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C8B4-A92E-4D88-B82A-A7CBEC3C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D5E-7AE1-41A3-B7F1-5DB58D94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153-7A5B-4B47-A867-294417E6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97C-ECD4-4284-B527-86466C61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6B1F-2104-4BB1-8A76-F21880553A7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4136-FA2E-4BA8-88ED-66DA342C2EA9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8497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ель деятельности классного руководителя: создание условий для саморазвития и самореализации личности обучающегося, его успешной социализации в обществ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направления деятельности классного руководителя по воздействию на индивидуальность ученика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806148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становление личных контак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учение учащихс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ализация индивидуального подход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редства индивидуального воз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траивание программы личностного роста ребен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500"/>
                            </p:stCondLst>
                            <p:childTnLst>
                              <p:par>
                                <p:cTn id="296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3" nodeType="afterEffect" fill="hold" presetClass="entr" presetID="3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пех индивидуального подхода обеспечивается реализацией следующих правил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роить отношения с учениками необходимо на основе высоких     этических нор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ебование инструментовать так, чтобы ученик воспринимал его не как диктат, а как свой добровольный выб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процессе организации деятельности особое внимание обращать на создание ситуации успеха, осуществлять педагогическую поддержк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бегать скоропалительных, поспешных оценок поступкам и поведению учени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мнить: взаимопонимание, сотрудничество с учеником возможно лишь в атмосфере доверия, уважения к его интересам, мнен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640"/>
                            </p:stCondLst>
                            <p:childTnLst>
                              <p:par>
                                <p:cTn id="323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436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772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3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929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79280" y="2781360"/>
            <a:ext cx="5329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ль: создание воспитывающей сред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59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93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ие правила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педагогически верной воспитательной позиции родителей возможно в том случае, если просьбы и советы учителя будут восприняты ими как вытекающие из нужд и интересов детей, становления их лич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арактеризуя детей, следует предваряющей оценкой выдвигать положительну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сокое уважение личности родителей как отца и матери, их родительских забот, их трудовой и общественн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500"/>
                            </p:stCondLst>
                            <p:childTnLst>
                              <p:par>
                                <p:cTn id="372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6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93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ржание  работы с родителями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дагогическое просвещ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овещение о ходе развития учени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комендации по созданию благоприятных семейных услов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общение к коллективной классной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суждение процесса и результатов воспит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950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ы работы с родителями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11280" y="2637000"/>
            <a:ext cx="557712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дительское собр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ндивидуальные бесед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исьма-характеристи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писки-извещ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3500"/>
                            </p:stCondLst>
                            <p:childTnLst>
                              <p:par>
                                <p:cTn id="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ация современных подходов в работе классного руководителя      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Щуркова Н.Е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785680"/>
            <a:ext cx="2502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ческий под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075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53800" y="3067200"/>
            <a:ext cx="181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чнос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ход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4160" y="4148280"/>
            <a:ext cx="17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бъек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71120" y="3427560"/>
            <a:ext cx="207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лекс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ход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1989000"/>
            <a:ext cx="0" cy="194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7280" y="2060640"/>
            <a:ext cx="64800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206064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213372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08720" y="2133720"/>
            <a:ext cx="64800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500"/>
                            </p:stCondLst>
                            <p:childTnLst>
                              <p:par>
                                <p:cTn id="2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ри объекта внимания классного руководителя: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692360" y="2276640"/>
            <a:ext cx="503280" cy="158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2133720"/>
            <a:ext cx="0" cy="93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2133720"/>
            <a:ext cx="503280" cy="180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965400"/>
            <a:ext cx="33847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-66672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ывающ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ющей деятельности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3067560"/>
            <a:ext cx="28814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-66672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изация и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л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7600" y="4148640"/>
            <a:ext cx="3152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новление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42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92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76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2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70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93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я воспитывающей деятельност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227664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оспитательное меро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268360" y="3429000"/>
            <a:ext cx="64800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3645000"/>
            <a:ext cx="50328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450864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ме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19640" y="465156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93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иды деятельности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68360" y="2565360"/>
            <a:ext cx="4608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знаватель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щественно-полез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ценностно-ориентировоч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художественно-творческ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вободного общ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ие методические требования к организации воспитывающей деятельности классного руководителя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18920" y="2421000"/>
            <a:ext cx="6264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ределение воспитательной задач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нтрация внимания учащихся на предметном результате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ределение роли и функции каждого учени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дагогический контроль и оцен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5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я и развитие коллектив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ные направления работы классного руководителя по организации и развитию классного коллекти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коллективной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самоуправл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перспективы развития коллекти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традиций коллекти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действие на межличностные отношения в классном коллектив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60"/>
                            </p:stCondLst>
                            <p:childTnLst>
                              <p:par>
                                <p:cTn id="198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60"/>
                            </p:stCondLst>
                            <p:childTnLst>
                              <p:par>
                                <p:cTn id="205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3560"/>
                            </p:stCondLst>
                            <p:childTnLst>
                              <p:par>
                                <p:cTn id="212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7560"/>
                            </p:stCondLst>
                            <p:childTnLst>
                              <p:par>
                                <p:cTn id="219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1560"/>
                            </p:stCondLst>
                            <p:childTnLst>
                              <p:par>
                                <p:cTn id="226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ели развития коллектива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бильность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варищеские взаимоотнош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жорное мироощущ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ственность за коллективное дел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остоятельное выдвижение общественно-значимых цел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403280" y="1628280"/>
            <a:ext cx="6696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тановление личности ученик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9:35:46Z</dcterms:created>
  <dc:creator>Home</dc:creator>
  <dc:description/>
  <dc:language>en-US</dc:language>
  <cp:lastModifiedBy>Липкина</cp:lastModifiedBy>
  <dcterms:modified xsi:type="dcterms:W3CDTF">2007-09-20T01:52:21Z</dcterms:modified>
  <cp:revision>5</cp:revision>
  <dc:subject/>
  <dc:title>Слайд 1</dc:title>
</cp:coreProperties>
</file>