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11.png" ContentType="image/png"/>
  <Override PartName="/ppt/media/image6.gif" ContentType="image/gif"/>
  <Override PartName="/ppt/media/image7.gif" ContentType="image/gi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5A8-BF0F-4321-81F9-AEF01C1B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A11-93F4-4978-9A70-C763B4EC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C23D-F9B5-4FD4-9F32-5F3F24EE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624-E28D-42C2-960B-52497AC7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E5C9-B76B-4D39-8F05-DC09A0C3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66B6-B58A-467E-9D1F-34FFD6E5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E075-50B4-4848-908E-7DD37E45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425B-7424-4149-974F-EC8F670E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143C-7C80-462E-B3F4-198E7D5E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EC7A-B450-4413-98E4-31D68995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3637-0996-4666-B391-E5AEA3ED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9CF-B473-4ED8-97C0-1FEB0590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DE1B-D785-47C4-9FB3-B422EE95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62DF-3D78-41A2-999A-B8585AA1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C1AA-AE72-4872-8C21-7E30BDED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CF42-D070-47BD-BF44-5C6E31CF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9207-0E84-4B0D-A7D8-5B8CB7FB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57B-952D-4C4B-AAE6-0918A6E3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76E2-79AF-4490-8547-FC14635E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3AD-4D82-439F-8EAF-133C07F6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0A2-3500-43C2-B9A9-F8686E57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0D1F-8DBE-41A8-BCDA-A24CC9A3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F6FA-A534-43DD-B4C3-EE4C1407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81B2-DFC8-47E0-A5A2-A11DBBBA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8358-3177-4A0B-87D3-3A8CE8E5EA43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FF80-8756-4ED8-92EB-0CD38D63C671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00000" y="1628640"/>
            <a:ext cx="731844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дагогическое общение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 rot="20832600">
            <a:off x="611280" y="1413000"/>
            <a:ext cx="799308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тическая защит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 общен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47628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800080"/>
                </a:solidFill>
                <a:uFillTx/>
                <a:latin typeface="Times New Roman"/>
              </a:rPr>
              <a:t>Этическая защита в общении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Times New Roman"/>
              </a:rPr>
              <a:t>-это защита человека от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Times New Roman"/>
              </a:rPr>
              <a:t>посягательства на его достоинство,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Times New Roman"/>
              </a:rPr>
              <a:t>производимая морально-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Times New Roman"/>
              </a:rPr>
              <a:t>этическими средствами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116000" y="0"/>
            <a:ext cx="7416720" cy="20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ункции этической защиты :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68360" y="2421000"/>
            <a:ext cx="7808400" cy="1130040"/>
            <a:chOff x="468360" y="2421000"/>
            <a:chExt cx="7808400" cy="1130040"/>
          </a:xfrm>
        </p:grpSpPr>
        <p:sp>
          <p:nvSpPr>
            <p:cNvPr id="177" name=""/>
            <p:cNvSpPr/>
            <p:nvPr/>
          </p:nvSpPr>
          <p:spPr>
            <a:xfrm>
              <a:off x="468360" y="2709720"/>
              <a:ext cx="431640" cy="28872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d60093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20680" y="2421000"/>
              <a:ext cx="7156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33"/>
                  </a:solidFill>
                  <a:latin typeface="Times New Roman"/>
                </a:rPr>
                <a:t>сохранение </a:t>
              </a:r>
              <a:r>
                <a:rPr b="1" i="1" lang="ru-RU" sz="4000" spc="-1" strike="noStrike">
                  <a:solidFill>
                    <a:srgbClr val="008000"/>
                  </a:solidFill>
                  <a:latin typeface="Times New Roman"/>
                </a:rPr>
                <a:t>достоинства педагога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33"/>
                  </a:solidFill>
                  <a:latin typeface="Times New Roman"/>
                </a:rPr>
                <a:t>как человека;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68360" y="3573360"/>
            <a:ext cx="6951600" cy="1130040"/>
            <a:chOff x="468360" y="3573360"/>
            <a:chExt cx="6951600" cy="1130040"/>
          </a:xfrm>
        </p:grpSpPr>
        <p:sp>
          <p:nvSpPr>
            <p:cNvPr id="180" name=""/>
            <p:cNvSpPr/>
            <p:nvPr/>
          </p:nvSpPr>
          <p:spPr>
            <a:xfrm>
              <a:off x="468360" y="3863880"/>
              <a:ext cx="431640" cy="28908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d60093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1960" y="3573360"/>
              <a:ext cx="6228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33"/>
                  </a:solidFill>
                  <a:latin typeface="Times New Roman"/>
                </a:rPr>
                <a:t>иметь целью </a:t>
              </a:r>
              <a:r>
                <a:rPr b="1" i="1" lang="ru-RU" sz="4000" spc="-1" strike="noStrike">
                  <a:solidFill>
                    <a:srgbClr val="008000"/>
                  </a:solidFill>
                  <a:latin typeface="Times New Roman"/>
                </a:rPr>
                <a:t>корректировать</a:t>
              </a:r>
              <a:r>
                <a:rPr b="1" lang="ru-RU" sz="28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33"/>
                  </a:solidFill>
                  <a:latin typeface="Times New Roman"/>
                </a:rPr>
                <a:t>недостойное поведение ребенка;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39640" y="5013360"/>
            <a:ext cx="8032320" cy="1556640"/>
            <a:chOff x="539640" y="5013360"/>
            <a:chExt cx="8032320" cy="1556640"/>
          </a:xfrm>
        </p:grpSpPr>
        <p:sp>
          <p:nvSpPr>
            <p:cNvPr id="183" name=""/>
            <p:cNvSpPr/>
            <p:nvPr/>
          </p:nvSpPr>
          <p:spPr>
            <a:xfrm>
              <a:off x="539640" y="5229360"/>
              <a:ext cx="431640" cy="28872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d60093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65040" y="5013360"/>
              <a:ext cx="7306920" cy="155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33"/>
                  </a:solidFill>
                  <a:latin typeface="Times New Roman"/>
                </a:rPr>
                <a:t>в своей реализации выполнять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33"/>
                  </a:solidFill>
                  <a:latin typeface="Times New Roman"/>
                </a:rPr>
                <a:t>роль </a:t>
              </a:r>
              <a:r>
                <a:rPr b="1" i="1" lang="ru-RU" sz="4000" spc="-1" strike="noStrike">
                  <a:solidFill>
                    <a:srgbClr val="008000"/>
                  </a:solidFill>
                  <a:latin typeface="Times New Roman"/>
                </a:rPr>
                <a:t>поддержки </a:t>
              </a:r>
              <a:r>
                <a:rPr b="1" lang="ru-RU" sz="2800" spc="-1" strike="noStrike">
                  <a:solidFill>
                    <a:srgbClr val="333333"/>
                  </a:solidFill>
                  <a:latin typeface="Times New Roman"/>
                </a:rPr>
                <a:t>ребенка, сохраняя его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33"/>
                  </a:solidFill>
                  <a:latin typeface="Times New Roman"/>
                </a:rPr>
                <a:t>достоинства;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 rot="293400">
            <a:off x="520560" y="402840"/>
            <a:ext cx="7921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особы этической защиты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7" name=""/>
          <p:cNvSpPr/>
          <p:nvPr/>
        </p:nvSpPr>
        <p:spPr>
          <a:xfrm>
            <a:off x="316440" y="1700280"/>
            <a:ext cx="883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Вопрос об адресате»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(«Это вы – мне?»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Вопрос о воспроизведении»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(«Простите, не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понял…»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Окультуренное воспроизведение»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(«Если я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вас правильно понял, вы хотели…»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Ссылка на особенности своего характера»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(«Что же делать, я не привык к …»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Оправдание поведения»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(«Вероятно, у ва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есть причины так говорить…»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1773360"/>
            <a:ext cx="8985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Проявление доброжелательности»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(«Хорошо, что вы…, так как мне…»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Великодушное прощение»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(«Если вам так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хочется, пусть…»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Сопоставление поведения с достоинствам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партнера»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(«Вы такой …, а …»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Оставить наедине с собою»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(«Как жаль, что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вы не понимаете, что происходит …»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Доведение до абсурда»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(« А я думал, что …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а оказывается,  я …»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 rot="293400">
            <a:off x="520560" y="402840"/>
            <a:ext cx="7921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особы этической защиты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476360" y="476280"/>
            <a:ext cx="6408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Техники слушани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51720" y="2060640"/>
            <a:ext cx="8791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8963"/>
                </a:solidFill>
                <a:latin typeface="Times New Roman"/>
              </a:rPr>
              <a:t>Активно слушать ребенка –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8963"/>
                </a:solidFill>
                <a:latin typeface="Times New Roman"/>
              </a:rPr>
              <a:t>значит «возвращать» ему в беседе то,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8963"/>
                </a:solidFill>
                <a:latin typeface="Times New Roman"/>
              </a:rPr>
              <a:t>что он вам поведал, при этом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8963"/>
                </a:solidFill>
                <a:latin typeface="Times New Roman"/>
              </a:rPr>
              <a:t>обозначив его чувство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133200" y="260280"/>
            <a:ext cx="9010800" cy="14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иёмы, используемы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 активном слушани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0320" y="2060640"/>
            <a:ext cx="7788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вернуться лицом к ребенку. Очень важно, чтоб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его и ваши глаза находились на одном уровне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Желательно, чтобы ваши ответы звучали в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утвердительной форме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чень важно в беседе «держать паузу»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зно повторить, что, как вы поняли, случилось с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ребенком, а потом обозначить его чувство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1476360" y="404640"/>
            <a:ext cx="676764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даёт 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тивное слушание?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/>
          <p:nvPr/>
        </p:nvSpPr>
        <p:spPr>
          <a:xfrm>
            <a:off x="546120" y="2133720"/>
            <a:ext cx="8177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983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Исчезает или сильно ослабевает отрицательно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переживание ребенка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f983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Ребенок, убедившись, что взрослый готов его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лушать, начинает рассказывать о себе больше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f983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Ребенок сам продвигается в решении своих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проблем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f983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332000" y="1773360"/>
            <a:ext cx="655308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Спасибо за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внимание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1908000" y="3141720"/>
            <a:ext cx="433440" cy="649080"/>
            <a:chOff x="1908000" y="3141720"/>
            <a:chExt cx="433440" cy="649080"/>
          </a:xfrm>
        </p:grpSpPr>
        <p:sp>
          <p:nvSpPr>
            <p:cNvPr id="203" name=""/>
            <p:cNvSpPr/>
            <p:nvPr/>
          </p:nvSpPr>
          <p:spPr>
            <a:xfrm>
              <a:off x="2196720" y="3284640"/>
              <a:ext cx="0" cy="360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052000" y="3646440"/>
              <a:ext cx="144360" cy="144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96720" y="3646440"/>
              <a:ext cx="144720" cy="144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052000" y="3430440"/>
              <a:ext cx="144360" cy="144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96720" y="3430440"/>
              <a:ext cx="144720" cy="144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08000" y="3141720"/>
              <a:ext cx="288720" cy="2174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900000" y="2349360"/>
            <a:ext cx="1441440" cy="2619000"/>
            <a:chOff x="900000" y="2349360"/>
            <a:chExt cx="1441440" cy="2619000"/>
          </a:xfrm>
        </p:grpSpPr>
        <p:sp>
          <p:nvSpPr>
            <p:cNvPr id="210" name=""/>
            <p:cNvSpPr/>
            <p:nvPr/>
          </p:nvSpPr>
          <p:spPr>
            <a:xfrm>
              <a:off x="903240" y="4508640"/>
              <a:ext cx="14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СВЕРХУ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900000" y="2349360"/>
              <a:ext cx="504720" cy="1008000"/>
              <a:chOff x="900000" y="2349360"/>
              <a:chExt cx="504720" cy="1008000"/>
            </a:xfrm>
          </p:grpSpPr>
          <p:sp>
            <p:nvSpPr>
              <p:cNvPr id="212" name=""/>
              <p:cNvSpPr/>
              <p:nvPr/>
            </p:nvSpPr>
            <p:spPr>
              <a:xfrm>
                <a:off x="1117440" y="2565360"/>
                <a:ext cx="0" cy="57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900000" y="3141360"/>
                <a:ext cx="217440" cy="21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7440" y="3141360"/>
                <a:ext cx="215640" cy="21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900000" y="2781000"/>
                <a:ext cx="217440" cy="144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17440" y="2781000"/>
                <a:ext cx="215640" cy="144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044360" y="2349360"/>
                <a:ext cx="360360" cy="2887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1908000" y="3141720"/>
              <a:ext cx="433440" cy="649080"/>
              <a:chOff x="1908000" y="3141720"/>
              <a:chExt cx="433440" cy="6490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96720" y="3284640"/>
                <a:ext cx="0" cy="3603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2052000" y="3646440"/>
                <a:ext cx="144360" cy="1443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196720" y="3646440"/>
                <a:ext cx="144720" cy="1443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052000" y="3430440"/>
                <a:ext cx="144360" cy="144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196720" y="3430440"/>
                <a:ext cx="144720" cy="144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908000" y="3141720"/>
                <a:ext cx="288720" cy="2174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"/>
          <p:cNvGrpSpPr/>
          <p:nvPr/>
        </p:nvGrpSpPr>
        <p:grpSpPr>
          <a:xfrm>
            <a:off x="3924360" y="2708280"/>
            <a:ext cx="1548720" cy="2260080"/>
            <a:chOff x="3924360" y="2708280"/>
            <a:chExt cx="1548720" cy="2260080"/>
          </a:xfrm>
        </p:grpSpPr>
        <p:sp>
          <p:nvSpPr>
            <p:cNvPr id="226" name=""/>
            <p:cNvSpPr/>
            <p:nvPr/>
          </p:nvSpPr>
          <p:spPr>
            <a:xfrm>
              <a:off x="4212000" y="450864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СНИЗУ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3924360" y="3284640"/>
              <a:ext cx="504720" cy="1008000"/>
              <a:chOff x="3924360" y="3284640"/>
              <a:chExt cx="504720" cy="1008000"/>
            </a:xfrm>
          </p:grpSpPr>
          <p:sp>
            <p:nvSpPr>
              <p:cNvPr id="228" name=""/>
              <p:cNvSpPr/>
              <p:nvPr/>
            </p:nvSpPr>
            <p:spPr>
              <a:xfrm>
                <a:off x="4141800" y="3500640"/>
                <a:ext cx="0" cy="57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3924360" y="4076640"/>
                <a:ext cx="217440" cy="21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141800" y="4076640"/>
                <a:ext cx="215640" cy="21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3924360" y="3716280"/>
                <a:ext cx="217440" cy="144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41800" y="3716280"/>
                <a:ext cx="215640" cy="144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068720" y="3284640"/>
                <a:ext cx="360360" cy="2887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003640" y="2708280"/>
              <a:ext cx="433440" cy="649080"/>
              <a:chOff x="5003640" y="2708280"/>
              <a:chExt cx="433440" cy="649080"/>
            </a:xfrm>
          </p:grpSpPr>
          <p:sp>
            <p:nvSpPr>
              <p:cNvPr id="235" name=""/>
              <p:cNvSpPr/>
              <p:nvPr/>
            </p:nvSpPr>
            <p:spPr>
              <a:xfrm>
                <a:off x="5292360" y="2851200"/>
                <a:ext cx="0" cy="3603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5147640" y="3213000"/>
                <a:ext cx="144360" cy="1443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92360" y="3213000"/>
                <a:ext cx="144720" cy="1443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5147640" y="2997000"/>
                <a:ext cx="144360" cy="144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292360" y="2997000"/>
                <a:ext cx="144720" cy="144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003640" y="2708280"/>
                <a:ext cx="288720" cy="2174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4c2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755640" y="1916280"/>
            <a:ext cx="7559640" cy="2017440"/>
            <a:chOff x="755640" y="1916280"/>
            <a:chExt cx="7559640" cy="2017440"/>
          </a:xfrm>
        </p:grpSpPr>
        <p:sp>
          <p:nvSpPr>
            <p:cNvPr id="85" name=""/>
            <p:cNvSpPr/>
            <p:nvPr/>
          </p:nvSpPr>
          <p:spPr>
            <a:xfrm>
              <a:off x="7380360" y="2349360"/>
              <a:ext cx="431640" cy="0"/>
            </a:xfrm>
            <a:prstGeom prst="line">
              <a:avLst/>
            </a:prstGeom>
            <a:ln w="76320">
              <a:solidFill>
                <a:srgbClr val="5789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755640" y="1916280"/>
              <a:ext cx="7559640" cy="2017440"/>
              <a:chOff x="755640" y="1916280"/>
              <a:chExt cx="7559640" cy="2017440"/>
            </a:xfrm>
          </p:grpSpPr>
          <p:sp>
            <p:nvSpPr>
              <p:cNvPr id="87" name=""/>
              <p:cNvSpPr txBox="1"/>
              <p:nvPr/>
            </p:nvSpPr>
            <p:spPr>
              <a:xfrm>
                <a:off x="755640" y="1916280"/>
                <a:ext cx="2664000" cy="666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Times New Roman"/>
                  </a:rPr>
                  <a:t>Общение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635280" y="2276640"/>
                <a:ext cx="576360" cy="0"/>
              </a:xfrm>
              <a:prstGeom prst="line">
                <a:avLst/>
              </a:prstGeom>
              <a:ln w="76320">
                <a:solidFill>
                  <a:srgbClr val="5789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 txBox="1"/>
              <p:nvPr/>
            </p:nvSpPr>
            <p:spPr>
              <a:xfrm>
                <a:off x="4427640" y="2060640"/>
                <a:ext cx="2735280" cy="450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Times New Roman"/>
                  </a:rPr>
                  <a:t>отношение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596360" y="2133720"/>
                <a:ext cx="0" cy="431640"/>
              </a:xfrm>
              <a:prstGeom prst="line">
                <a:avLst/>
              </a:prstGeom>
              <a:ln w="76320">
                <a:solidFill>
                  <a:srgbClr val="5789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 txBox="1"/>
              <p:nvPr/>
            </p:nvSpPr>
            <p:spPr>
              <a:xfrm>
                <a:off x="1187280" y="3141720"/>
                <a:ext cx="7128000" cy="79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Times New Roman"/>
                  </a:rPr>
                  <a:t>характер взаимодействия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403280" y="836640"/>
            <a:ext cx="63374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истройки в общении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6804000" y="2133720"/>
            <a:ext cx="1451160" cy="2475720"/>
            <a:chOff x="6804000" y="2133720"/>
            <a:chExt cx="1451160" cy="2475720"/>
          </a:xfrm>
        </p:grpSpPr>
        <p:pic>
          <p:nvPicPr>
            <p:cNvPr id="96" name="" descr=""/>
            <p:cNvPicPr/>
            <p:nvPr/>
          </p:nvPicPr>
          <p:blipFill>
            <a:blip r:embed="rId5"/>
            <a:stretch/>
          </p:blipFill>
          <p:spPr>
            <a:xfrm>
              <a:off x="6804000" y="2133720"/>
              <a:ext cx="1451160" cy="18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804720" y="4149720"/>
              <a:ext cx="132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РЯДОМ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708360" y="3716280"/>
            <a:ext cx="2448000" cy="2909160"/>
            <a:chOff x="3708360" y="3716280"/>
            <a:chExt cx="2448000" cy="2909160"/>
          </a:xfrm>
        </p:grpSpPr>
        <p:pic>
          <p:nvPicPr>
            <p:cNvPr id="99" name="" descr=""/>
            <p:cNvPicPr/>
            <p:nvPr/>
          </p:nvPicPr>
          <p:blipFill>
            <a:blip r:embed="rId6"/>
            <a:stretch/>
          </p:blipFill>
          <p:spPr>
            <a:xfrm>
              <a:off x="3708360" y="4365720"/>
              <a:ext cx="1289160" cy="18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7"/>
            <a:stretch/>
          </p:blipFill>
          <p:spPr>
            <a:xfrm>
              <a:off x="4932360" y="3716280"/>
              <a:ext cx="12240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788360" y="616572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СНИЗУ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8360" y="1989000"/>
            <a:ext cx="2308320" cy="3628440"/>
            <a:chOff x="468360" y="1989000"/>
            <a:chExt cx="2308320" cy="3628440"/>
          </a:xfrm>
        </p:grpSpPr>
        <p:pic>
          <p:nvPicPr>
            <p:cNvPr id="103" name="" descr=""/>
            <p:cNvPicPr/>
            <p:nvPr/>
          </p:nvPicPr>
          <p:blipFill>
            <a:blip r:embed="rId8"/>
            <a:stretch/>
          </p:blipFill>
          <p:spPr>
            <a:xfrm>
              <a:off x="1116000" y="1989000"/>
              <a:ext cx="1660680" cy="170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9"/>
            <a:stretch/>
          </p:blipFill>
          <p:spPr>
            <a:xfrm>
              <a:off x="468360" y="3716280"/>
              <a:ext cx="12240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190520" y="5157720"/>
              <a:ext cx="14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СВЕРХУ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619280" y="260280"/>
            <a:ext cx="58323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ри "Я" человека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11280" y="1844640"/>
            <a:ext cx="6397560" cy="1068840"/>
            <a:chOff x="611280" y="1844640"/>
            <a:chExt cx="6397560" cy="1068840"/>
          </a:xfrm>
        </p:grpSpPr>
        <p:sp>
          <p:nvSpPr>
            <p:cNvPr id="108" name=""/>
            <p:cNvSpPr/>
            <p:nvPr/>
          </p:nvSpPr>
          <p:spPr>
            <a:xfrm>
              <a:off x="611280" y="2060640"/>
              <a:ext cx="431640" cy="28872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54600" y="1844640"/>
              <a:ext cx="5754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d60093"/>
                  </a:solidFill>
                  <a:latin typeface="Times New Roman"/>
                </a:rPr>
                <a:t>дитя</a:t>
              </a:r>
              <a:r>
                <a:rPr b="1" i="1" lang="ru-RU" sz="32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333333"/>
                  </a:solidFill>
                  <a:latin typeface="Times New Roman"/>
                </a:rPr>
                <a:t>(зависимое, подчиняемое,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333333"/>
                  </a:solidFill>
                  <a:latin typeface="Times New Roman"/>
                </a:rPr>
                <a:t>безответственное);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11280" y="2997360"/>
            <a:ext cx="8281440" cy="1556280"/>
            <a:chOff x="611280" y="2997360"/>
            <a:chExt cx="8281440" cy="1556280"/>
          </a:xfrm>
        </p:grpSpPr>
        <p:sp>
          <p:nvSpPr>
            <p:cNvPr id="111" name=""/>
            <p:cNvSpPr/>
            <p:nvPr/>
          </p:nvSpPr>
          <p:spPr>
            <a:xfrm>
              <a:off x="611280" y="3141720"/>
              <a:ext cx="431640" cy="28872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53160" y="2997360"/>
              <a:ext cx="7639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d60093"/>
                  </a:solidFill>
                  <a:latin typeface="Times New Roman"/>
                </a:rPr>
                <a:t>родитель</a:t>
              </a:r>
              <a:r>
                <a:rPr b="1" i="1" lang="ru-RU" sz="32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333333"/>
                  </a:solidFill>
                  <a:latin typeface="Times New Roman"/>
                </a:rPr>
                <a:t>(независимый, не подчиняемый,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33"/>
                  </a:solidFill>
                  <a:latin typeface="Times New Roman"/>
                </a:rPr>
                <a:t>берущий всю ответственность только на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33"/>
                  </a:solidFill>
                  <a:latin typeface="Times New Roman"/>
                </a:rPr>
                <a:t>себя);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11280" y="4724280"/>
            <a:ext cx="8485920" cy="1068840"/>
            <a:chOff x="611280" y="4724280"/>
            <a:chExt cx="8485920" cy="1068840"/>
          </a:xfrm>
        </p:grpSpPr>
        <p:sp>
          <p:nvSpPr>
            <p:cNvPr id="114" name=""/>
            <p:cNvSpPr/>
            <p:nvPr/>
          </p:nvSpPr>
          <p:spPr>
            <a:xfrm>
              <a:off x="611280" y="4797360"/>
              <a:ext cx="431640" cy="28908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52080" y="4724280"/>
              <a:ext cx="784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d60093"/>
                  </a:solidFill>
                  <a:latin typeface="Times New Roman"/>
                </a:rPr>
                <a:t>взрослый</a:t>
              </a:r>
              <a:r>
                <a:rPr b="1" i="1" lang="ru-RU" sz="32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333333"/>
                  </a:solidFill>
                  <a:latin typeface="Times New Roman"/>
                </a:rPr>
                <a:t>(умеющий считаться с ситуацией,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33"/>
                  </a:solidFill>
                  <a:latin typeface="Times New Roman"/>
                </a:rPr>
                <a:t>понимать интересы других людей).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35280" y="404640"/>
            <a:ext cx="583236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ровни обще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1280" y="1844640"/>
            <a:ext cx="7056360" cy="5457600"/>
            <a:chOff x="611280" y="1844640"/>
            <a:chExt cx="7056360" cy="5457600"/>
          </a:xfrm>
        </p:grpSpPr>
        <p:sp>
          <p:nvSpPr>
            <p:cNvPr id="119" name=""/>
            <p:cNvSpPr/>
            <p:nvPr/>
          </p:nvSpPr>
          <p:spPr>
            <a:xfrm>
              <a:off x="1095480" y="1844640"/>
              <a:ext cx="6572160" cy="54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примитивный;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манипулятивный;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стандартизированный;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конвенциональный;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игровой;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1" lang="ru-RU" sz="4000" spc="-1" strike="noStrike">
                  <a:solidFill>
                    <a:srgbClr val="333333"/>
                  </a:solidFill>
                  <a:latin typeface="Times New Roman"/>
                </a:rPr>
                <a:t>духовный.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buClr>
                  <a:srgbClr val="33333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1280" y="2060640"/>
              <a:ext cx="431640" cy="28872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d60093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1280" y="2708280"/>
              <a:ext cx="431640" cy="28908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1280" y="3284640"/>
              <a:ext cx="431640" cy="28872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1280" y="3933720"/>
              <a:ext cx="431640" cy="28908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1280" y="4581360"/>
              <a:ext cx="431640" cy="28908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1280" y="5157720"/>
              <a:ext cx="431640" cy="289080"/>
            </a:xfrm>
            <a:prstGeom prst="sun">
              <a:avLst>
                <a:gd name="adj" fmla="val 25000"/>
              </a:avLst>
            </a:prstGeom>
            <a:solidFill>
              <a:srgbClr val="99cc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8880" y="620640"/>
            <a:ext cx="89924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</a:rPr>
              <a:t>ОБЩЕНИЕ</a:t>
            </a:r>
            <a:r>
              <a:rPr b="1" i="1" lang="ru-RU" sz="2400" spc="-1" strike="noStrike">
                <a:solidFill>
                  <a:srgbClr val="d2aad2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7c7d79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7d79"/>
                </a:solidFill>
                <a:latin typeface="Times New Roman"/>
              </a:rPr>
              <a:t>взаимодействие субъектов,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7d7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7c7d79"/>
                </a:solidFill>
                <a:latin typeface="Times New Roman"/>
              </a:rPr>
              <a:t>в процессе которого происходит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7d79"/>
                </a:solidFill>
                <a:latin typeface="Times New Roman"/>
              </a:rPr>
              <a:t>взаимная трансляция «Я» субъектов.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7d79"/>
                </a:solidFill>
                <a:latin typeface="Times New Roman"/>
              </a:rPr>
              <a:t>Общение преобразует духовное достояние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7d79"/>
                </a:solidFill>
                <a:latin typeface="Times New Roman"/>
              </a:rPr>
              <a:t>одного человека в общее достояние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7d79"/>
                </a:solidFill>
                <a:latin typeface="Times New Roman"/>
              </a:rPr>
              <a:t>субъектов общения.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(Н.Е. Щуркова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395280" y="1125360"/>
            <a:ext cx="8777520" cy="1079640"/>
            <a:chOff x="395280" y="1125360"/>
            <a:chExt cx="8777520" cy="1079640"/>
          </a:xfrm>
        </p:grpSpPr>
        <p:grpSp>
          <p:nvGrpSpPr>
            <p:cNvPr id="130" name=""/>
            <p:cNvGrpSpPr/>
            <p:nvPr/>
          </p:nvGrpSpPr>
          <p:grpSpPr>
            <a:xfrm>
              <a:off x="395280" y="1125360"/>
              <a:ext cx="4105440" cy="1079640"/>
              <a:chOff x="395280" y="1125360"/>
              <a:chExt cx="4105440" cy="1079640"/>
            </a:xfrm>
          </p:grpSpPr>
          <p:sp>
            <p:nvSpPr>
              <p:cNvPr id="131" name=""/>
              <p:cNvSpPr/>
              <p:nvPr/>
            </p:nvSpPr>
            <p:spPr>
              <a:xfrm>
                <a:off x="395280" y="1125360"/>
                <a:ext cx="1368360" cy="1079640"/>
              </a:xfrm>
              <a:prstGeom prst="ellipse">
                <a:avLst/>
              </a:prstGeom>
              <a:noFill/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33"/>
                    </a:solidFill>
                    <a:latin typeface="Times New Roman"/>
                  </a:rPr>
                  <a:t>S1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32000" y="1125360"/>
                <a:ext cx="1368720" cy="1079640"/>
              </a:xfrm>
              <a:prstGeom prst="ellipse">
                <a:avLst/>
              </a:prstGeom>
              <a:noFill/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33"/>
                    </a:solidFill>
                    <a:latin typeface="Times New Roman"/>
                  </a:rPr>
                  <a:t>S2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124000" y="1484280"/>
                <a:ext cx="863640" cy="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050560" y="1844640"/>
                <a:ext cx="863640" cy="0"/>
              </a:xfrm>
              <a:prstGeom prst="line">
                <a:avLst/>
              </a:prstGeom>
              <a:ln w="381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4860720" y="1268280"/>
              <a:ext cx="4312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33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Это простое и бесхитростное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взаимодействие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55640" y="2852640"/>
            <a:ext cx="8097480" cy="1079280"/>
            <a:chOff x="755640" y="2852640"/>
            <a:chExt cx="8097480" cy="1079280"/>
          </a:xfrm>
        </p:grpSpPr>
        <p:grpSp>
          <p:nvGrpSpPr>
            <p:cNvPr id="137" name=""/>
            <p:cNvGrpSpPr/>
            <p:nvPr/>
          </p:nvGrpSpPr>
          <p:grpSpPr>
            <a:xfrm>
              <a:off x="755640" y="2852640"/>
              <a:ext cx="8097480" cy="1079280"/>
              <a:chOff x="755640" y="2852640"/>
              <a:chExt cx="8097480" cy="107928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755640" y="2852640"/>
                <a:ext cx="2736720" cy="1079280"/>
                <a:chOff x="755640" y="2852640"/>
                <a:chExt cx="2736720" cy="10792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55640" y="2852640"/>
                  <a:ext cx="1368360" cy="1079280"/>
                </a:xfrm>
                <a:prstGeom prst="ellipse">
                  <a:avLst/>
                </a:prstGeom>
                <a:noFill/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124000" y="2852640"/>
                  <a:ext cx="1368360" cy="1079280"/>
                </a:xfrm>
                <a:prstGeom prst="ellipse">
                  <a:avLst/>
                </a:prstGeom>
                <a:noFill/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3746880" y="2925720"/>
                <a:ext cx="510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333333"/>
                  </a:buClr>
                  <a:buFont typeface="Times New Roman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33"/>
                    </a:solidFill>
                    <a:latin typeface="Times New Roman"/>
                  </a:rPr>
                  <a:t> </a:t>
                </a:r>
                <a:r>
                  <a:rPr b="1" lang="ru-RU" sz="2400" spc="-1" strike="noStrike">
                    <a:solidFill>
                      <a:srgbClr val="333333"/>
                    </a:solidFill>
                    <a:latin typeface="Times New Roman"/>
                  </a:rPr>
                  <a:t>Это общение в его потенциальном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33"/>
                    </a:solidFill>
                    <a:latin typeface="Times New Roman"/>
                  </a:rPr>
                  <a:t>   </a:t>
                </a:r>
                <a:r>
                  <a:rPr b="1" lang="ru-RU" sz="2400" spc="-1" strike="noStrike">
                    <a:solidFill>
                      <a:srgbClr val="333333"/>
                    </a:solidFill>
                    <a:latin typeface="Times New Roman"/>
                  </a:rPr>
                  <a:t>развертывании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2268720" y="3357360"/>
              <a:ext cx="2872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92360" y="3357360"/>
              <a:ext cx="2872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971640" y="4653000"/>
            <a:ext cx="8166240" cy="1191240"/>
            <a:chOff x="971640" y="4653000"/>
            <a:chExt cx="8166240" cy="1191240"/>
          </a:xfrm>
        </p:grpSpPr>
        <p:grpSp>
          <p:nvGrpSpPr>
            <p:cNvPr id="146" name=""/>
            <p:cNvGrpSpPr/>
            <p:nvPr/>
          </p:nvGrpSpPr>
          <p:grpSpPr>
            <a:xfrm>
              <a:off x="971640" y="4653000"/>
              <a:ext cx="8166240" cy="1191240"/>
              <a:chOff x="971640" y="4653000"/>
              <a:chExt cx="8166240" cy="1191240"/>
            </a:xfrm>
          </p:grpSpPr>
          <p:sp>
            <p:nvSpPr>
              <p:cNvPr id="147" name=""/>
              <p:cNvSpPr/>
              <p:nvPr/>
            </p:nvSpPr>
            <p:spPr>
              <a:xfrm>
                <a:off x="3691800" y="4653000"/>
                <a:ext cx="5446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333333"/>
                  </a:buClr>
                  <a:buFont typeface="Times New Roman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33"/>
                    </a:solidFill>
                    <a:latin typeface="Times New Roman"/>
                  </a:rPr>
                  <a:t> </a:t>
                </a:r>
                <a:r>
                  <a:rPr b="1" lang="ru-RU" sz="2400" spc="-1" strike="noStrike">
                    <a:solidFill>
                      <a:srgbClr val="333333"/>
                    </a:solidFill>
                    <a:latin typeface="Times New Roman"/>
                  </a:rPr>
                  <a:t>Это общение как взаимная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33"/>
                    </a:solidFill>
                    <a:latin typeface="Times New Roman"/>
                  </a:rPr>
                  <a:t>  </a:t>
                </a:r>
                <a:r>
                  <a:rPr b="1" lang="ru-RU" sz="2400" spc="-1" strike="noStrike">
                    <a:solidFill>
                      <a:srgbClr val="333333"/>
                    </a:solidFill>
                    <a:latin typeface="Times New Roman"/>
                  </a:rPr>
                  <a:t>трансляция одного «Я» другому «Я» 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33"/>
                    </a:solidFill>
                    <a:latin typeface="Times New Roman"/>
                  </a:rPr>
                  <a:t>  </a:t>
                </a:r>
                <a:r>
                  <a:rPr b="1" lang="ru-RU" sz="2400" spc="-1" strike="noStrike">
                    <a:solidFill>
                      <a:srgbClr val="333333"/>
                    </a:solidFill>
                    <a:latin typeface="Times New Roman"/>
                  </a:rPr>
                  <a:t>своего внутреннего мира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971640" y="4653000"/>
                <a:ext cx="2376360" cy="1079640"/>
                <a:chOff x="971640" y="4653000"/>
                <a:chExt cx="2376360" cy="1079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979640" y="4653000"/>
                  <a:ext cx="1368360" cy="1079640"/>
                </a:xfrm>
                <a:prstGeom prst="ellipse">
                  <a:avLst/>
                </a:prstGeom>
                <a:noFill/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S2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971640" y="4653000"/>
                  <a:ext cx="1368360" cy="1079640"/>
                </a:xfrm>
                <a:prstGeom prst="ellipse">
                  <a:avLst/>
                </a:prstGeom>
                <a:noFill/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S1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flipH="1">
                <a:off x="1979640" y="4869000"/>
                <a:ext cx="216000" cy="4316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2052360" y="4941720"/>
                <a:ext cx="215640" cy="432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2124000" y="5084640"/>
                <a:ext cx="216000" cy="432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835280" y="4941720"/>
              <a:ext cx="7207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834920" y="5300640"/>
              <a:ext cx="6490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979640" y="907920"/>
            <a:ext cx="56167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Функции общения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50920" y="2133720"/>
            <a:ext cx="3168720" cy="2303280"/>
            <a:chOff x="250920" y="2133720"/>
            <a:chExt cx="3168720" cy="2303280"/>
          </a:xfrm>
        </p:grpSpPr>
        <p:sp>
          <p:nvSpPr>
            <p:cNvPr id="158" name=""/>
            <p:cNvSpPr/>
            <p:nvPr/>
          </p:nvSpPr>
          <p:spPr>
            <a:xfrm flipH="1">
              <a:off x="2195640" y="2133720"/>
              <a:ext cx="1224000" cy="6476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0920" y="2924280"/>
              <a:ext cx="2663640" cy="1512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«открытие»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ребенка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на общение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492360" y="2133720"/>
            <a:ext cx="2449800" cy="2303280"/>
            <a:chOff x="3492360" y="2133720"/>
            <a:chExt cx="2449800" cy="2303280"/>
          </a:xfrm>
        </p:grpSpPr>
        <p:sp>
          <p:nvSpPr>
            <p:cNvPr id="161" name=""/>
            <p:cNvSpPr/>
            <p:nvPr/>
          </p:nvSpPr>
          <p:spPr>
            <a:xfrm>
              <a:off x="4788000" y="2133720"/>
              <a:ext cx="0" cy="6476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92360" y="2924280"/>
              <a:ext cx="2449800" cy="1512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«соучастие»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ребенку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в процессе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общения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00720" y="2133720"/>
            <a:ext cx="2664000" cy="2303280"/>
            <a:chOff x="6300720" y="2133720"/>
            <a:chExt cx="2664000" cy="2303280"/>
          </a:xfrm>
        </p:grpSpPr>
        <p:sp>
          <p:nvSpPr>
            <p:cNvPr id="164" name=""/>
            <p:cNvSpPr/>
            <p:nvPr/>
          </p:nvSpPr>
          <p:spPr>
            <a:xfrm>
              <a:off x="6300720" y="2133720"/>
              <a:ext cx="1224000" cy="57456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00720" y="2924280"/>
              <a:ext cx="2664000" cy="1512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«возвышение»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ребенка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в процессе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</a:rPr>
                <a:t>общения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26920" y="476280"/>
            <a:ext cx="750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Принципы гуманистическог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общения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2421000"/>
            <a:ext cx="48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2060640"/>
            <a:ext cx="7705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уважение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неприкосновенность личности;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признание, как данности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10880" cy="66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6:32:30Z</dcterms:created>
  <dc:creator>1</dc:creator>
  <dc:description/>
  <dc:language>en-US</dc:language>
  <cp:lastModifiedBy>sch77-book5</cp:lastModifiedBy>
  <dcterms:modified xsi:type="dcterms:W3CDTF">2007-05-30T08:25:25Z</dcterms:modified>
  <cp:revision>17</cp:revision>
  <dc:subject/>
  <dc:title>Заголовок слайда отсутствует</dc:title>
</cp:coreProperties>
</file>