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8BF-1998-45A3-8D43-2D4572B6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3C9-28F6-4906-A5E5-6F4A114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6C8-352E-4844-AB0B-050A17DC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790-0FF5-41B7-9D2F-DB4784F7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F592-48C9-47CA-947D-E0583386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602B-28E7-45FD-B362-533C286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1068-59DC-478A-B85C-B73D9FC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7BC2-1EDC-4D49-84FA-8FDC186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E2B7-30EB-45A7-9C1B-172EF9D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0E4-FA4B-4539-B64C-5F1D1C8D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DDDD-4473-4924-AF0D-49549ED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64A-72D9-413D-AD81-90035F4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6F20-09E2-4B60-87EA-1170389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533-E458-4027-A186-6715036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AE0-4D7C-4A38-B1BA-73D37D7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1959-BD3A-4FDD-8334-A34074C6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3E6F-8464-4A15-A83E-20A6735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E60-DEC7-43EB-AAE8-3E01F6C0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B06-B48D-41D4-8BE0-7DD7ABD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668-2D77-493D-967B-B565E718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9F6-DD74-477A-A7C0-BABA7C3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AD3-C0F4-41AA-BE3B-B63A2EE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DEE-9321-4C8C-94E0-054A2E4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6D8-70DF-4B8B-8BE5-BCED1EB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079-53D1-4C2B-8157-8A0853C87BE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32B-DDA4-44D5-8D0C-C757111BDA9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207400">
            <a:off x="468000" y="1557360"/>
            <a:ext cx="7920000" cy="28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 "контрактов"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96000" y="4005360"/>
            <a:ext cx="3151080" cy="261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715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ов срок выполнения контракта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77868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7000" spc="-1" strike="noStrike">
                <a:solidFill>
                  <a:srgbClr val="9933ff"/>
                </a:solidFill>
                <a:latin typeface="Monotype Corsiva"/>
              </a:rPr>
              <a:t>Каковы форма и регла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мент</a:t>
            </a:r>
            <a:r>
              <a:rPr b="0" i="1" lang="ru-RU" sz="7000" spc="-1" strike="noStrike">
                <a:solidFill>
                  <a:srgbClr val="9933ff"/>
                </a:solidFill>
                <a:latin typeface="Monotype Corsiva"/>
              </a:rPr>
              <a:t> взаимодействия учащегося с преподавателем?</a:t>
            </a:r>
            <a:endParaRPr b="0" lang="en-US" sz="7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657000">
            <a:off x="7667640" y="5157360"/>
            <a:ext cx="1228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После обсуждения всех вопросов составляется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Comic Sans MS"/>
              </a:rPr>
              <a:t>текст контракта,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который подписывается обеими сторонами и оглашается в класс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Вы ознакомились с одним из основных методов работы учителя – 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методом контрак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805360"/>
            <a:ext cx="8244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Спасибо за внимание!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95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Comic Sans MS"/>
              </a:rPr>
              <a:t>Сущность метода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Конкретное содержание обучения для каждого учащегося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е задается требованиями программы или методики,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а является результатом совместного договора учителя и учеников –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«контракта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При обсуждении и разработке контракта важно продумать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следующие вопросы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715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то именно и в каком составе будет выполнять контракт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15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Что конкретно предполагается сделать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cc"/>
                </a:solidFill>
                <a:latin typeface="Monotype Corsiva"/>
              </a:rPr>
              <a:t>(тема и основная проблема контракта)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713916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ов ожидаемый результат для учащегося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859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Что должно получиться в качестве конечного продукта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5130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715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 и по каким критериям будет оцениваться контракт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240200">
            <a:off x="7164360" y="260280"/>
            <a:ext cx="1771560" cy="1771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18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7200" spc="-1" strike="noStrike">
                <a:solidFill>
                  <a:srgbClr val="9933ff"/>
                </a:solidFill>
                <a:latin typeface="Monotype Corsiva"/>
              </a:rPr>
              <a:t>Какие ресурсы могут понадобиться для работы над контрактом </a:t>
            </a:r>
            <a:r>
              <a:rPr b="0" i="1" lang="ru-RU" sz="7200" spc="-1" strike="noStrike">
                <a:solidFill>
                  <a:srgbClr val="0000ff"/>
                </a:solidFill>
                <a:latin typeface="Monotype Corsiva"/>
              </a:rPr>
              <a:t>и где их найти?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sanovaII</cp:lastModifiedBy>
  <dcterms:modified xsi:type="dcterms:W3CDTF">2007-01-10T13:48:27Z</dcterms:modified>
  <cp:revision>4</cp:revision>
  <dc:subject/>
  <dc:title>PowerPoint Presentation</dc:title>
</cp:coreProperties>
</file>