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3B2-2FE2-4839-B7DC-674D8165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B48-07A3-4F2D-BC4D-A794623F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A36-004E-4511-88FB-7D521490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B46-CD55-47A3-A9C5-AAC4F857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49C0-3FDD-462D-BFC6-C17D7CE4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146F-4E60-4134-A30F-CB67A55C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9E60-D90A-4FB4-9773-3ED686D9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FE99-3F0B-4768-A7BC-97FDF5BE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12D3-0345-47D5-8CB6-E663FCFC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BAFD-A4A6-4B17-B6EB-E0EA331A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A3B2-BDFB-403C-B232-FB8211E7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4C2-36C6-4D73-AA7A-8917C63D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DDFF-1BD6-4B47-9A38-2B124EA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5AEC-BFCB-4C5B-8CCF-FD68E347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15BE-C0DF-435C-8AD2-01D9536C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3C5B-0E7D-491E-B4C6-69A17421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F39D-BB66-49E2-9113-BA5FCEA5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520-8F52-4149-9BC9-70286B6C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54E-1567-488B-B52A-FA61E3BE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255-8B04-4490-A237-3F079387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BE5-A869-4144-B922-9DE2A841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F4A-3D6F-48EF-A5FF-94CE945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5EF-B424-4FD2-8DE3-CB4E1B8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D9E-895A-4191-9A6D-453F2A4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E218-7CA9-447C-8F8E-FCEB27260D0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D020-D282-4A3A-A543-BD7435D2DC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 rot="21015000">
            <a:off x="323640" y="980640"/>
            <a:ext cx="728496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rnd" w="381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Классный час</a:t>
            </a:r>
            <a:endParaRPr b="1" lang="en-US" sz="2400" spc="1" strike="noStrike">
              <a:ln cap="rnd" w="381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847440"/>
          </a:xfrm>
          <a:prstGeom prst="rect">
            <a:avLst/>
          </a:prstGeom>
          <a:gradFill rotWithShape="0">
            <a:gsLst>
              <a:gs pos="0">
                <a:srgbClr val="66ff99">
                  <a:alpha val="80392"/>
                </a:srgbClr>
              </a:gs>
              <a:gs pos="100000">
                <a:srgbClr val="ff0f87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d05aa"/>
              </a:buClr>
              <a:buSzPct val="65000"/>
              <a:buFont typeface="Wingding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05aa"/>
                </a:solidFill>
                <a:latin typeface="Tahoma"/>
              </a:rPr>
              <a:t>Усвоение учащимися принятых в обществе ценносте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Tahoma"/>
              </a:rPr>
              <a:t>Развитие уникальности и субъектности ребе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26000" y="607860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05aa"/>
                </a:solidFill>
                <a:latin typeface="Comic Sans MS"/>
              </a:rPr>
              <a:t>Традицио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5877000"/>
            <a:ext cx="29512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Comic Sans MS"/>
              </a:rPr>
              <a:t>Личностно-ориентирова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gradFill rotWithShape="0">
            <a:gsLst>
              <a:gs pos="0">
                <a:srgbClr val="66ff99">
                  <a:alpha val="80392"/>
                </a:srgbClr>
              </a:gs>
              <a:gs pos="100000">
                <a:srgbClr val="ff0f87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4321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05aa"/>
              </a:buClr>
              <a:buSzPct val="6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05aa"/>
                </a:solidFill>
                <a:latin typeface="Tahoma"/>
              </a:rPr>
              <a:t>Содержание классного часа определяет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педагог.</a:t>
            </a:r>
            <a:r>
              <a:rPr b="1" lang="ru-RU" sz="3200" spc="-1" strike="noStrike">
                <a:solidFill>
                  <a:srgbClr val="fd05aa"/>
                </a:solidFill>
                <a:latin typeface="Tahoma"/>
              </a:rPr>
              <a:t> Содержанием являются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социально-ценностные отнош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24000" y="1268280"/>
            <a:ext cx="5219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SzPct val="6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99"/>
                </a:solidFill>
                <a:latin typeface="Tahoma"/>
              </a:rPr>
              <a:t>Содержание является 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личностно-значимым.</a:t>
            </a:r>
            <a:r>
              <a:rPr b="1" lang="ru-RU" sz="3200" spc="-1" strike="noStrike">
                <a:solidFill>
                  <a:srgbClr val="00ff99"/>
                </a:solidFill>
                <a:latin typeface="Tahoma"/>
              </a:rPr>
              <a:t> В качестве содержания  - материал, необходимый для 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самостроительства, самоутверждения</a:t>
            </a:r>
            <a:r>
              <a:rPr b="1" lang="ru-RU" sz="3200" spc="-1" strike="noStrike">
                <a:solidFill>
                  <a:srgbClr val="00ff99"/>
                </a:solidFill>
                <a:latin typeface="Tahoma"/>
              </a:rPr>
              <a:t> личности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026000" y="623736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05aa"/>
                </a:solidFill>
                <a:latin typeface="Comic Sans MS"/>
              </a:rPr>
              <a:t>Традицио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6076800"/>
            <a:ext cx="29512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Comic Sans MS"/>
              </a:rPr>
              <a:t>Личностно-ориентирова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1640" cy="936360"/>
          </a:xfrm>
          <a:prstGeom prst="rect">
            <a:avLst/>
          </a:prstGeom>
          <a:gradFill rotWithShape="0">
            <a:gsLst>
              <a:gs pos="0">
                <a:srgbClr val="66ff99">
                  <a:alpha val="80392"/>
                </a:srgbClr>
              </a:gs>
              <a:gs pos="100000">
                <a:srgbClr val="ff0f87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Организация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деятель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3132000" cy="30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d05a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05aa"/>
                </a:solidFill>
                <a:latin typeface="Tahoma"/>
              </a:rPr>
              <a:t>Организацией </a:t>
            </a:r>
            <a:r>
              <a:rPr b="0" lang="ru-RU" sz="3200" spc="-1" strike="noStrike">
                <a:solidFill>
                  <a:srgbClr val="fd05aa"/>
                </a:solidFill>
                <a:latin typeface="Tahoma"/>
              </a:rPr>
              <a:t>деятельности занимаетс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d05aa"/>
                </a:solidFill>
                <a:latin typeface="Tahoma"/>
              </a:rPr>
              <a:t>педаго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32000" y="981000"/>
            <a:ext cx="6012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Учащиеся –</a:t>
            </a:r>
            <a:r>
              <a:rPr b="1" lang="ru-RU" sz="3200" spc="-1" strike="noStrike">
                <a:solidFill>
                  <a:srgbClr val="00ff99"/>
                </a:solidFill>
                <a:latin typeface="Tahoma"/>
              </a:rPr>
              <a:t> полноправные </a:t>
            </a: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организат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арактерн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Актуализация жизненного опы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проявление и развитие индивидуальности ребё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Ситуации выбора и успех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Диа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21280" y="609300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05aa"/>
                </a:solidFill>
                <a:latin typeface="Comic Sans MS"/>
              </a:rPr>
              <a:t>Традицио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35640" y="5877000"/>
            <a:ext cx="29512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Comic Sans MS"/>
              </a:rPr>
              <a:t>Личностно-ориентирова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8320" cy="1295280"/>
          </a:xfrm>
          <a:prstGeom prst="rect">
            <a:avLst/>
          </a:prstGeom>
          <a:gradFill rotWithShape="0">
            <a:gsLst>
              <a:gs pos="0">
                <a:srgbClr val="66ff99">
                  <a:alpha val="80392"/>
                </a:srgbClr>
              </a:gs>
              <a:gs pos="100000">
                <a:srgbClr val="ff0f87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Ценностно-аналитический компонент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4464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d05a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05aa"/>
                </a:solidFill>
                <a:latin typeface="Tahoma"/>
              </a:rPr>
              <a:t>Ценность передаваемой информ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00720" y="1699920"/>
            <a:ext cx="42544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Tahoma"/>
              </a:rPr>
              <a:t>Проявление и обогащение жизненного опыта  ребё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026000" y="607860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05aa"/>
                </a:solidFill>
                <a:latin typeface="Comic Sans MS"/>
              </a:rPr>
              <a:t>Традицио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5877000"/>
            <a:ext cx="29512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Comic Sans MS"/>
              </a:rPr>
              <a:t>Личностно-ориентирова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0f87">
                  <a:alpha val="60392"/>
                </a:srgbClr>
              </a:gs>
              <a:gs pos="100000">
                <a:srgbClr val="66ff99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00e4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84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50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,-103)"/>
                                      </p:to>
                                    </p:set>
                                    <p:set>
                                      <p:cBhvr>
                                        <p:cTn id="289" dur="50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,-103)"/>
                                      </p:to>
                                    </p:set>
                                    <p:set>
                                      <p:cBhvr>
                                        <p:cTn id="290" dur="50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2f7575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0000"/>
                </a:solidFill>
                <a:uFillTx/>
                <a:latin typeface="Comic Sans MS"/>
              </a:rPr>
              <a:t>Классный час</a:t>
            </a:r>
            <a:r>
              <a:rPr b="0" lang="ru-RU" sz="6000" spc="-1" strike="noStrike">
                <a:solidFill>
                  <a:srgbClr val="cc0000"/>
                </a:solidFill>
                <a:latin typeface="Comic Sans MS"/>
              </a:rPr>
              <a:t> – </a:t>
            </a:r>
            <a:r>
              <a:rPr b="0" lang="ru-RU" sz="6000" spc="-1" strike="noStrike">
                <a:solidFill>
                  <a:srgbClr val="ff0f87"/>
                </a:solidFill>
                <a:latin typeface="Comic Sans MS"/>
              </a:rPr>
              <a:t>это …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пециально организованная ценностно-ориентационная деятельность, способствующая формированию у школьников системы отношений к окружающему мир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bc3"/>
              </a:gs>
              <a:gs pos="100000">
                <a:srgbClr val="ffcc66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Comic Sans MS"/>
              </a:rPr>
              <a:t>Функции классного ча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росветительск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Ориентирующ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Направляющ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006600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Comic Sans MS"/>
              </a:rPr>
              <a:t>Методические направления формирования ценностного отноше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ff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cc"/>
                </a:solidFill>
                <a:latin typeface="Tahoma"/>
              </a:rPr>
              <a:t>Обнаружение ц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ffff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Tahoma"/>
              </a:rPr>
              <a:t>Предъявление ценности 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ff99"/>
                </a:solidFill>
                <a:latin typeface="Tahoma"/>
              </a:rPr>
              <a:t>«своём пленительном и глубоком значен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Нахождение формы взаимодействия с детьми, которые активизируют духовную деятельность по ценностному осмыслению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ffff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Упражнение детей в направлении от «ЗНАЮ» к «УМЕЮ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ffff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Осмысление детьми своих связей с ми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84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6699ff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ffff"/>
                </a:solidFill>
                <a:uFillTx/>
                <a:latin typeface="Comic Sans MS"/>
              </a:rPr>
              <a:t>Содержание классного часа определяют по следующим направлениям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99c"/>
                </a:solidFill>
                <a:latin typeface="Tahoma"/>
              </a:rPr>
              <a:t>Человек и его взаимоотнош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399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Наука и позн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99c"/>
                </a:solidFill>
                <a:latin typeface="Tahoma"/>
              </a:rPr>
              <a:t>Прекрасное в жизни, в искусстве, в челове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f8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Психологическая темат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99c"/>
                </a:solidFill>
                <a:latin typeface="Tahoma"/>
              </a:rPr>
              <a:t>Экологическая темат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,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Чтение газетных и журнальных материа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Tahoma"/>
              </a:rPr>
              <a:t>Обзоры периодических изд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Анкетирование и анализ его результ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Беседа за круглым сто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суждение событий школьной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ahoma"/>
              </a:rPr>
              <a:t>Встречи с произведениями искус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ahoma"/>
              </a:rPr>
              <a:t>Размышление над известным суждением или афоризм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Классный час с элементами художественной деятельности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0"/>
            <a:ext cx="8424720" cy="1224000"/>
          </a:xfrm>
          <a:prstGeom prst="rect">
            <a:avLst/>
          </a:prstGeom>
          <a:gradFill rotWithShape="0">
            <a:gsLst>
              <a:gs pos="0">
                <a:srgbClr val="6699ff">
                  <a:alpha val="80392"/>
                </a:srgbClr>
              </a:gs>
              <a:gs pos="50000">
                <a:srgbClr val="31c73f">
                  <a:alpha val="80392"/>
                </a:srgbClr>
              </a:gs>
              <a:gs pos="100000">
                <a:srgbClr val="6699ff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Comic Sans MS"/>
              </a:rPr>
              <a:t>Методы и приемы проведения классного ча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 rot="20700000">
            <a:off x="0" y="692280"/>
            <a:ext cx="734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d05a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d05aa"/>
                </a:solidFill>
                <a:latin typeface="Arial Black"/>
              </a:rPr>
              <a:t>Традиционный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0700000">
            <a:off x="1263240" y="3799800"/>
            <a:ext cx="76294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d05a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99"/>
                </a:solidFill>
                <a:latin typeface="Arial Black"/>
              </a:rPr>
              <a:t>Личностно-ориентированны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 rot="20671800">
            <a:off x="3419640" y="2276280"/>
            <a:ext cx="2377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89000"/>
            <a:ext cx="9155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5dffd"/>
                </a:solidFill>
                <a:uFillTx/>
                <a:latin typeface="Comic Sans MS"/>
              </a:rPr>
              <a:t>Какой бывает классный час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99"/>
                </a:solidFill>
                <a:uFillTx/>
                <a:latin typeface="Comic Sans MS"/>
              </a:rPr>
              <a:t>Компоненты классного часа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рганизация деятель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нностно-аналитический компоне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rot="20472600">
            <a:off x="468000" y="16286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d05aa"/>
                </a:solidFill>
                <a:uFillTx/>
                <a:latin typeface="Comic Sans MS"/>
              </a:rPr>
              <a:t>Сравнение компонентов</a:t>
            </a:r>
            <a:r>
              <a:rPr b="1" lang="ru-RU" sz="4400" spc="-1" strike="noStrike" u="sng">
                <a:solidFill>
                  <a:srgbClr val="00ff00"/>
                </a:solidFill>
                <a:uFillTx/>
                <a:latin typeface="Comic Sans MS"/>
              </a:rPr>
              <a:t> традиционного </a:t>
            </a:r>
            <a:br>
              <a:rPr sz="4400"/>
            </a:br>
            <a:r>
              <a:rPr b="1" lang="ru-RU" sz="4400" spc="-1" strike="noStrike" u="sng">
                <a:solidFill>
                  <a:srgbClr val="00ff99"/>
                </a:solidFill>
                <a:uFillTx/>
                <a:latin typeface="Comic Sans MS"/>
              </a:rPr>
              <a:t>и </a:t>
            </a:r>
            <a:br>
              <a:rPr sz="4400"/>
            </a:br>
            <a:r>
              <a:rPr b="1" lang="ru-RU" sz="4400" spc="-1" strike="noStrike" u="sng">
                <a:solidFill>
                  <a:srgbClr val="fd05aa"/>
                </a:solidFill>
                <a:uFillTx/>
                <a:latin typeface="Comic Sans MS"/>
              </a:rPr>
              <a:t>личностно-ориентированного </a:t>
            </a:r>
            <a:br>
              <a:rPr sz="4400"/>
            </a:br>
            <a:r>
              <a:rPr b="1" lang="ru-RU" sz="4400" spc="-1" strike="noStrike" u="sng">
                <a:solidFill>
                  <a:srgbClr val="00ff99"/>
                </a:solidFill>
                <a:uFillTx/>
                <a:latin typeface="Comic Sans MS"/>
              </a:rPr>
              <a:t>классного час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sanovaII</cp:lastModifiedBy>
  <dcterms:modified xsi:type="dcterms:W3CDTF">2007-01-11T07:56:44Z</dcterms:modified>
  <cp:revision>9</cp:revision>
  <dc:subject/>
  <dc:title>PowerPoint Presentation</dc:title>
</cp:coreProperties>
</file>