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538B-1AB0-479C-8E62-681C0F18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CB80-0F9D-46F1-9365-13E54BA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346E-B67A-4F7A-B82D-E586CCFD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31B3-DACE-4BC3-99FA-6547FBB4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97C1-46AF-4FE5-9CD1-177332A9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E24-BFE2-42F4-AD06-5E2E391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F1C-7FA7-4B86-BFCF-BB027E8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309A-15B8-4AF7-AA03-C2B07A30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D040-6E42-4C59-8512-13FC511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5C7B-630F-478B-AEF9-8DF7714B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672C-1F4B-492C-B4AF-C1E2E3F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E2EF-1F93-4301-8880-5FB24C6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81EF-DB39-44C7-90CE-34BFEFA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6F2A-F70E-409B-A9F8-C92C8BA3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B4A4-E3E4-49B0-9ED4-3EC61BF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03B9-37EC-4843-9981-BE41FEEE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215-F528-4598-8580-021375BC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A285-642C-4FB5-AA74-143DF6F4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0BF5-C917-45B3-81B4-ED74C26E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216B-6082-4558-BAA3-BB40E22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3551-1648-488F-AEE2-B66D70C5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25E7-0AC3-4EF5-B34A-A15489B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3A40-9A6D-4BA8-99A9-519729F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171A-3C20-43DC-9A22-4570FB50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B7A-32C0-4351-B1FA-BB83F9144F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2790-B1E0-4225-8111-AEC53216ED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Выбор образовательного маршру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9 кла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консуль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е, налоговые, юридические консуль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по антикризисному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по политическому консалтин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нты в области управления, системной интег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промышле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производ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О ПРОФЕССИЯХ, ПОЛЬЗУЮЩИХСЯ СПРОСОМ В ПЕРМСКОМ КРА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оэлектросва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9144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ой аг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 раб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ЕССИИ, ПОЛЬЗУЮЩИЕСЯ СПРОСОМ В Г.ЧАЙ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-газорез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сарь-ремон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тель автомобиля, автоб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ж, гардероб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з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37335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ЕССИИ, КОТОРЫЕ БУДУТ ПОПУЛЯРН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ЕЗ 5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ко-математически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итар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кетно-космическ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опасность жизнедеятельности и защит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И ПРИ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нание мира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и непрерывно меняют свой прежний облик, нередко за старым названием скрывается  новый характер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беждения в отношении престижности профессии, ориентация сразу на профессии высшей квалификации (менеджер, дипломат, переводчи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лечение только внешней стороной профессии (например, когда человек хочет стать юристом, потому что смотрит детектив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нани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разобраться в себе, в своих действительных склонностях неадекватная оценка своих способ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оценка своих физических возможностей, состояния своего здоровья при выборе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соотнести свои способности с требованиями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нание правил выбора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ождествление учебного предмета с профессией («Увлекаюсь географией - стану геологом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ос отношения к человеку на профессию («Буду, как мама - бухгалтером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профессии «за компанию» - неосознанная боязнь расстаться с привычным окруж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ИРОВАНИЕ ПРОФЕССИОНАЛЬНОГО БУДУЩ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5" descr="woman06.gif"/>
          <p:cNvPicPr/>
          <p:nvPr/>
        </p:nvPicPr>
        <p:blipFill>
          <a:blip r:embed="rId1"/>
          <a:stretch/>
        </p:blipFill>
        <p:spPr>
          <a:xfrm>
            <a:off x="6858000" y="3200400"/>
            <a:ext cx="2286000" cy="3041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шаг. Самонаблю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своих профессиональных интересов и с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шаг. Сбор и оценк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офессии и содержани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возможностях трудо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рспекти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едпри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girl_book.gif"/>
          <p:cNvPicPr/>
          <p:nvPr/>
        </p:nvPicPr>
        <p:blipFill>
          <a:blip r:embed="rId1"/>
          <a:stretch/>
        </p:blipFill>
        <p:spPr>
          <a:xfrm>
            <a:off x="5791320" y="3733920"/>
            <a:ext cx="22096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5" descr="g09.gif"/>
          <p:cNvPicPr/>
          <p:nvPr/>
        </p:nvPicPr>
        <p:blipFill>
          <a:blip r:embed="rId1"/>
          <a:stretch/>
        </p:blipFill>
        <p:spPr>
          <a:xfrm>
            <a:off x="7162920" y="1752480"/>
            <a:ext cx="1552320" cy="2440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шаг. Принятие решения  и планирование достижения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вариантов (основной и запас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возможностей каждого вари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решения с авторитетным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ТЕЛЬНАЯ КАРТА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ее (полное)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й «Синт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й образовательный центр для старше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woman_teacher_blackboard_md_wht.gif"/>
          <p:cNvPicPr/>
          <p:nvPr/>
        </p:nvPicPr>
        <p:blipFill>
          <a:blip r:embed="rId1"/>
          <a:stretch/>
        </p:blipFill>
        <p:spPr>
          <a:xfrm>
            <a:off x="6172200" y="3962520"/>
            <a:ext cx="24433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ональное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знаков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-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йковский профессионально-педагогический колле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ник-м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физ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(механизация с\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 (вычислительная тех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 по социаль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5" descr="b104.gif"/>
          <p:cNvPicPr/>
          <p:nvPr/>
        </p:nvPicPr>
        <p:blipFill>
          <a:blip r:embed="rId1"/>
          <a:stretch/>
        </p:blipFill>
        <p:spPr>
          <a:xfrm>
            <a:off x="6858000" y="1143000"/>
            <a:ext cx="16765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йковский профессионально-педагогический колле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еха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ь художествен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од-овоще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ист экскав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7" descr="constr40.gif"/>
          <p:cNvPicPr/>
          <p:nvPr/>
        </p:nvPicPr>
        <p:blipFill>
          <a:blip r:embed="rId1"/>
          <a:stretch/>
        </p:blipFill>
        <p:spPr>
          <a:xfrm>
            <a:off x="5486400" y="3657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йковский техникум промышленных технологий и у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 по рекл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авец, контролер-касс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икма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, конд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3" descr="boy18.gif"/>
          <p:cNvPicPr/>
          <p:nvPr/>
        </p:nvPicPr>
        <p:blipFill>
          <a:blip r:embed="rId1"/>
          <a:stretch/>
        </p:blipFill>
        <p:spPr>
          <a:xfrm>
            <a:off x="6629400" y="2994120"/>
            <a:ext cx="2286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лище №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паратчик-оп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мо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с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арь-универс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, конд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стро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та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b75.gif"/>
          <p:cNvPicPr/>
          <p:nvPr/>
        </p:nvPicPr>
        <p:blipFill>
          <a:blip r:embed="rId1"/>
          <a:stretch/>
        </p:blipFill>
        <p:spPr>
          <a:xfrm>
            <a:off x="5410080" y="2819520"/>
            <a:ext cx="27669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ицинский колле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13" descr="3.gif"/>
          <p:cNvPicPr/>
          <p:nvPr/>
        </p:nvPicPr>
        <p:blipFill>
          <a:blip r:embed="rId1"/>
          <a:stretch/>
        </p:blipFill>
        <p:spPr>
          <a:xfrm>
            <a:off x="380880" y="2824200"/>
            <a:ext cx="2934000" cy="4033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4" descr="24.gif"/>
          <p:cNvPicPr/>
          <p:nvPr/>
        </p:nvPicPr>
        <p:blipFill>
          <a:blip r:embed="rId2"/>
          <a:stretch/>
        </p:blipFill>
        <p:spPr>
          <a:xfrm>
            <a:off x="6629400" y="380880"/>
            <a:ext cx="1523880" cy="304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ская 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37335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ВЫПУСКНИКАМ, ПОСТУПАЮЩИМ В УЧЕБНЫЕ ЗА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несколько нужных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тить эти учебные за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свои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, в какое заведение посту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мать запасные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 варианты подготовки к экзаме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352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ЛЬ РОДИТЕЛЕЙ В ПРОФЕССИОНАЛЬНОМ САМООПРЕДЕЛЕНИИ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миром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ь в оценке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ь в заполн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подрос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ыб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b46.gif"/>
          <p:cNvPicPr/>
          <p:nvPr/>
        </p:nvPicPr>
        <p:blipFill>
          <a:blip r:embed="rId1"/>
          <a:stretch/>
        </p:blipFill>
        <p:spPr>
          <a:xfrm>
            <a:off x="5715000" y="3048120"/>
            <a:ext cx="2362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\\192.168.1.1\документы\Обменник\Саламатова\Профессии\opr01Q48.gif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ИСТЫ, НАИБОЛЕЕ ВОСТРЕБОВАННЫЕ НА РЫНКЕ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финан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дир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бухгал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ы по привлечению инвестиций, оптимизации финансовых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клиентски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по привлечению к работе с кли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по продажам продукции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рекламы и продвижения товаров и усл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джмейк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енд-менед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оу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транспортировки гр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склад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10-02-16T07:20:3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