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FA33-9FDC-4BA7-BF78-FC722DC2B5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559C-3969-4FBF-BC45-6B34A45F68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FF6-47C2-47EC-8678-74510286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B0A-5AD0-4DE5-8F21-03B9E272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1AE-B808-40D6-9A99-320DBCFE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E0C-E906-4C92-8395-8BD97FEB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8275-FBF8-48DD-A34A-7E4BAD9C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D0CF-EA90-4719-A8E3-93C573CE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582A-BE29-44EA-855E-A447AC3F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C2B3-24C3-45D8-8A89-23F9A68D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69C0-C159-4BC6-9B14-D75923B4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3EDD-3553-4CCA-8FFE-BE98B03D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247B-40D8-4184-8DDC-B053EB08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3EC-07BF-4163-9FA2-8B973DE5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E3D6-CD28-4C24-9276-053335C9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F97A-FC84-4B56-B88E-6ACC6C63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4991-2B36-47C3-8FEA-BC941E04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3120-EB41-4C6F-B8F6-E8F01002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B318-469C-4567-85C1-9CA2C056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5D6E-7A86-4E11-90E9-018C5804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3653-915E-404F-8872-AEBE5CD0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D4BD-20A9-403A-B022-ACFC6B77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B8D1-450A-4FBF-BDCB-4171391D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E50DF-9504-4A0C-9FE0-F7CA3B2B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D91-1BC6-4FC7-B18E-8CA869FA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59FF5-F817-47FA-A862-7189A7C1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B528-DED2-44A4-ACFD-FA9609F5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45FE-BCF8-486E-A1DD-9D59112D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AF82-716D-4EE0-8094-17D73B05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F7EA-333B-4C6E-839F-18E53AD7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3103-6EB2-4C2E-95B0-A6207324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5D04-D63D-42EB-A88F-D7262BB3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1CCEC-8B5F-4E28-9F00-25D435BC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27790-B073-4055-BDA2-79C26F84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89AFF-87F7-4D7B-B51B-0B6067E5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C4D-37CB-48E5-BE17-C8340EB0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4A688-8EE4-4939-9B03-6BB54258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6CC50-0771-484D-9D52-457C60C3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2D467-F5D6-414A-B428-BA4018FC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7005-AF92-4A21-A36B-1A765AAF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F678B-4A11-4279-99ED-513B4255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E081-3800-41B8-913B-2079591F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3790-32BE-4193-B25B-E47C5DA7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693E9-6DB8-47DC-AB9F-CB99B3F7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DBF1-036F-4B65-82EC-5B1DC8B4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6B4D1-4D00-43C4-ABB4-E4E5F42F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275-6E07-4C59-9A59-59E94DB5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ED057-E99D-4DCA-8DD2-994C369C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C399F-9FCA-4556-AF69-96BC39CF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A49A0-44E3-4221-9CE1-15D376C8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F760B-EB5C-4EAB-B227-AB8A22B6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50C88-F553-4927-AF69-B408D4A2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F19D2-3DCD-4ED6-9510-AD6F9F3C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5A800-3DAF-4D95-9303-95C2512B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CC676-39B0-4181-8356-DAEC0EBF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47781-027D-45FA-B600-9AD72C9E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BFD20-5D17-441D-B089-926ADC68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542-E8D6-47A1-94B8-07F3DB9C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2E6FE-69DA-40F8-A5EC-990EBE25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592B5-4DF7-4B96-8202-70649148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82D89-157E-4B4F-8BB0-474615C9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D3F9-F080-4828-8B85-1929B143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54043-94A9-4E02-A4D3-FCD1E35B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5FAA0-9F59-4F59-84BE-DA42EA23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EDDA4-D39E-4CBD-B5C5-65047BB9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2FB85-AE83-46EB-B3FD-1D9088B2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D3233-2996-4F08-BDF9-6E261206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C228B-5041-46C0-9765-5EFD4213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C90-271F-4C91-A494-610E7EE0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FE59-D2A3-4D33-AB0D-9B8E11AC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93189-ED9B-4979-B8F4-F7BD7ED9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C46C8-E2B7-4326-BF0B-04926FC5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B2F97-0E7C-4018-9EB0-2C47EA9E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FBD82-F450-4E1F-A79D-520A98AE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CE68E-4BC5-4D4C-BAD9-3F14FECE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EF675-5A42-4B96-9791-9C295F7A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3D1B2-F5AA-40F2-A94B-DFB88A5C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3FF58-E58F-49D2-BAD2-62106189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06D33-E2FB-475B-B38D-AC3D9499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2A7-115A-4509-9AEE-A1FFD316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F3577-3800-4C48-BF5A-034D04DB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4B24A-1D38-4538-9DBA-6502D062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91ABA-BC3D-4BC4-BDDF-75E58D47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EFE00-F4B1-418A-8C08-CBF9428C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7E911-D8A6-437A-B3E9-016594B4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577-31E6-4E34-BE6E-7B826E00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1816-C50F-4885-B927-D2119040B1C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4113-B194-4297-9D41-0BC9FCD857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AAF4-8329-43D0-B99F-D275D6B5558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8F81-5A40-4665-AA14-A7D109447FF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1562-E7F0-4300-8651-B60B73905FC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6C63-1D58-46FB-A722-B7C0D91D0E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5DED-E6B0-43E5-B0F3-D9F1067B0E6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8960" y="137160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одители – заказчики образовательных услуг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47560" y="32767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Школа родительского актив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29.10.2009 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огласовывает по представлению директора Школы бюджетную заявку, смету бюджетного финансирования и смету расходования средств, полученных Школой от уставной, приносящей доход деятельности и из внебюджетных источников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участвует в принятии решений о распределении средств стимулирующей части фонда оплаты труда Школы;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огласовывает решение Школы о сдаче в аренду закрепленных за ней объектов  собственности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ежегодно не позднее 1 ноября представляет Учредителю и общественности доклад о состоянии дел в Школе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ЛАССНЫЕ РОДИТЕЛЬСКИЕ КОМИТЕТЫ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исполнительные органы родителей класса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СТАВ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стойные  и уважаемые матери  и отцы (3-5 человек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рганизация совместных дел родителей и детей; спортивные соревнования, праздники, туристические походы, огоньки, конкурсы, субботники, экскурсии, турниры знатоков, ярмарки – распродажи  семейных поделок, выставка «Мир наших увлечений», общественный смотр знаний и т.д.  Родительский актив занимается организацией школьных каникул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здание банка данных родительских ресурсов по организации совместной деятельности родителей и детей осуществляется через опрос, анкетирование, индивидуальные собеседования с родителями. Определяются возможности каждой семьи и материальной, финансовой, практической помощи классу, школе, а также выявляются административные, юридические, информационные,  интеллектуальные и прочие ресурсы семьи. Данные заносятся в картотеку родительских резервов и возможностей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29492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спространение лучшего опыта семейного воспитания. Проводится через родительские собрания, круглые столы, родительский лекторий, читательские конференции, вечера вопросов и ответов, диспуты, дискуссии, уроки семейной любви и др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здание и сохранение традиций детско-взрослого сообщества. Родительский комитет совместно со взрослыми и детьми продумывает начало и окончание учебного года, вводит в традиции презентацию новых семей класса, имеют свою особую систему поощрения учащихся, родителей, учителей. Традициями могут стать и ритуал зажжения свечей перед началом общего дела, проведение семейного совета родителей и детей по решению конкретной проблемы класса, ведение летописи школьных лет, переходные семейные призы, классная доска Почета и др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существляет подготовку классных родительских собраний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АВА РОДИТЕЛЕ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бирать форму получения образования, образовательное учреждение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щищать законные права и интересы детей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для этого необходимо обратиться с письменным заявлением к директору Школы, который обязан в установленный законом срок (не позднее чем через месяц) дать письменный ответ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в случае конфликта между родителем (законным представителем) и учителем по поводу объективности выставленной оценки, приказом директора Школы создается независимая комиссия специалистов-предметников, которая проверяет знания обучающегося и выставляет соответствующую оценку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сутствовать на заседании Педагогического совета Школы и принимать участие в обсуждении в случае, когда разбирается вопрос об успеваемости и поведении их ребенка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аствовать в управлении Школой, т.е. избирать и быть избранным в Попечительский совет и Управляющий совет, принимать участие и выражать свое мнение на общешкольных и классных родительских собраниях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АВА РОДИТЕЛЕ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и обучении ребенка в семье, на любом этапе обучения продолжить его образование в Школе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накомиться с ходом и содержанием образовательного процесса, с оценками успеваемости обучающихся. С оценками успеваемости обучающегося родителей (законных представителей) знакомит классный руководитель в письменной или устной форме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сещать уроки в классе, где обучается ребенок, с разрешения директора Школы или заместителя директора по учебно-воспитательной работе и согласия учителя, ведущего урок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накомиться с настоящим Уставом и другими документами, регламентирующими организацию образовательного процесса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сещать Школу и беседовать с педагогами во внеурочное время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ЯЗАННОСТИ РОДИТЕЛЕ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920"/>
            <a:ext cx="7499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беспечить  получение детьми основного общего образования и создать  условия для получения ими среднего (полного) общего образования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ести ответственность за их воспитание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ести ответственность за ликвидацию обучающимся академической задолженности в течение учебного года в случае его перевода в следующий класс «условно»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ыполнять Устав Школы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сещать проводимые Школой родительские собрания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воевременно ставить в известность классного руководителя о возможном отсутствии или болезни своего ребенка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РАЗОВАТЕЛЬНЫЕ УСЛУГИ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СОШ№4»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ЩЕЕ ОБРАЗОВАН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ая ступень – начальное общее образование;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торая ступень – основное общее образование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тья ступень – среднее (полное) общее образовани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ПРАВЛЕНИЕ ШКОЛО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66320" y="1143000"/>
            <a:ext cx="786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1981080" y="1295280"/>
            <a:ext cx="3353040" cy="6098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КОНФЕ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1981080" y="2209680"/>
            <a:ext cx="3353040" cy="6858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УПРАВЛЯЮЩИ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6"/>
          <p:cNvSpPr/>
          <p:nvPr/>
        </p:nvSpPr>
        <p:spPr>
          <a:xfrm>
            <a:off x="1066680" y="3276720"/>
            <a:ext cx="2590920" cy="9144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ПЕДАГОГИЧЕСКИ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7"/>
          <p:cNvSpPr/>
          <p:nvPr/>
        </p:nvSpPr>
        <p:spPr>
          <a:xfrm>
            <a:off x="1066680" y="4572000"/>
            <a:ext cx="2590920" cy="8380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МЕТОДИЧЕСКИ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8"/>
          <p:cNvSpPr/>
          <p:nvPr/>
        </p:nvSpPr>
        <p:spPr>
          <a:xfrm>
            <a:off x="3809880" y="3276720"/>
            <a:ext cx="2590920" cy="1218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КЛАССНЫЕ РОДИТЕЛЬСКИЕ КОМИТ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9"/>
          <p:cNvSpPr/>
          <p:nvPr/>
        </p:nvSpPr>
        <p:spPr>
          <a:xfrm>
            <a:off x="3809880" y="5562720"/>
            <a:ext cx="259092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РОДИТЕЛЬСКИЙ АКТИВ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0"/>
          <p:cNvSpPr/>
          <p:nvPr/>
        </p:nvSpPr>
        <p:spPr>
          <a:xfrm>
            <a:off x="5562720" y="1752480"/>
            <a:ext cx="3352680" cy="6098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ДИР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1"/>
          <p:cNvSpPr/>
          <p:nvPr/>
        </p:nvSpPr>
        <p:spPr>
          <a:xfrm>
            <a:off x="6553080" y="3276720"/>
            <a:ext cx="2362320" cy="9144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СОВЕТ СТАРШЕКЛАС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2"/>
          <p:cNvSpPr/>
          <p:nvPr/>
        </p:nvSpPr>
        <p:spPr>
          <a:xfrm>
            <a:off x="6553080" y="4343400"/>
            <a:ext cx="2362320" cy="99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АКТИВЫ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ервая ступен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зовательные программы (Занков Л.В., «Школа -2100»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руппы продленного дня (1 кл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акультатив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ие в интеллектуальных и творческих конкурса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еклассная деятельнос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тний оздоровительный отды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торая ступен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ие в интеллектуальных и творческих конкурса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акультатив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тняя  занятос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еклассная деятельнос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профильная подготовка (курсы по выбору, ориентационные курсы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ретья ступен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фильное обучени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ивные курс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еклассная деятельнос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тняя занятос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ие в творческих и интеллектуальных  конкурса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ОРМЫ ОБУЧЕНИЯ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чна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кстерна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детей с ограниченными возможностями – обучение на дому (медицинское заключение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циально-психолого-педагогическое сопровождение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ятельность  психолог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ятельность  социального педагог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сихолого-медико-педагогический консилиу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вет профилактик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учение и просвещение родител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разовательные услуги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льзование информационными образовательными ресурсам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льзование библиотечными ресурсам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атные дополнительные образовательные услуг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Перечень платных дополнительных образовательных услуг: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учение по дополнительным образовательным программам различной  направленност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подавание специальных курсов и циклов дисциплин сверх  часов и сверх программ по данной  дисциплине, предусмотренной учебным  планом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петиторство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зличные  курсы (по  подготовке к  поступлению в  различные  учебные  заведения, по  изучению  иностранных  языков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здание групп по адаптации детей дошкольного возраста к  условиям школьной жизн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КОНФЕРЕНЦИЯ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47560" y="228600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СШИЙ ОРГАН САМОУПРАВЛЕНИЯ ШКОЛО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СТАВ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щиеся   8-11-х классов (по 1 человеку из класса)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ителя и другие работники Школы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дители (законные представители) обучающихс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тверждает основные направления развития Школы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матривает и принимает Устав Школы, изменения и дополнения, вносимые в него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носит на согласование Учредителю новую редакцию Устава, изменения и дополнения в Устав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ПРАВЛЯЮЩИЙ СОВЕТ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СШИЙ ОРГАН САМОУПРАВЛЕНИЯ В ПЕРИОД МЕЖДУ КОНФЕРЕНЦИЯМ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СТАВ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дители (11 человек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щиеся (3 человека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дагоги (6 человек, в т.ч. директор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итель УО и П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участвует в разработке Устава Школы, изменений и дополнений к нему для  последующего принятия  на Конференции;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гласовывает компонент общеобразовательного учреждения государственного  стандарта общего образования (по представлению директора после одобрения Педагогическим советом);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рабатывает и принимает локальные акты Школы;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гласовывает концепцию (план, программу) развития Школы, основные направления работы Школы на год;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920"/>
            <a:ext cx="7499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устанавливает режим работы Школы, в том числе продолжительность учебной недели (пятидневная или шестидневная), время начала и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кончания занятий; принимает решение о введении (отмене) единой формы одежды для обучающихся и педагогических работников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овместно с Педагогическим советом принимает решение об исключении обучающегося из школы;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одействует  привлечению  внебюджетных средств для обеспечения деятельности и развития Школы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утверждает отчет директора Школы по итогам учебного и финансового года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уществляет контроль за здоровыми и безопасными условиями обучения;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ламатоваТВ</cp:lastModifiedBy>
  <dcterms:modified xsi:type="dcterms:W3CDTF">2009-10-29T11:25:3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