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gif" ContentType="image/gif"/>
  <Override PartName="/ppt/media/image16.png" ContentType="image/png"/>
  <Override PartName="/ppt/media/image8.gif" ContentType="image/gif"/>
  <Override PartName="/ppt/media/image12.gif" ContentType="image/gif"/>
  <Override PartName="/ppt/media/image15.png" ContentType="image/png"/>
  <Override PartName="/ppt/media/image19.gif" ContentType="image/gif"/>
  <Override PartName="/ppt/media/image1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6.wmf" ContentType="image/x-wmf"/>
  <Override PartName="/ppt/media/image20.wmf" ContentType="image/x-wmf"/>
  <Override PartName="/ppt/media/image5.jpeg" ContentType="image/jpeg"/>
  <Override PartName="/ppt/media/image18.wmf" ContentType="image/x-wmf"/>
  <Override PartName="/ppt/media/image7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A55-DB71-4913-B51D-6D50E7A5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CF6-EDE2-4D0B-A8BC-8D46B9EB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C6D-FA9B-42BC-8218-9A6E27B1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0B9-A6E2-4140-8B1A-B0B41014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C25C-88AA-4EF8-A7F7-FB2F1FEF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DB6C-7C23-4633-934F-16C55F2B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CC99-C53B-4BAA-97EC-A7104BDA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12D9-2B5B-4A9E-926A-72476022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E513-B3B2-4285-8E0D-2F879E9A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A714-02A1-47A4-B461-BD4B699D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6F7D-2641-467C-B086-75525E0A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AA7-5BAC-491F-BFF3-185A19BC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E963-099A-469B-89EB-40D834C3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9B2C-6EC5-4E1A-8953-B5C11519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3871-7210-4A1D-BF3E-6084DC23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E9F9-615E-4D45-B410-0E2D9595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7AC3-64BD-4A70-9BE3-4483036D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0AF0-87DD-4CB8-9AF7-2DF4DC96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D24FC-624D-4B73-8826-7E69475F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77B2-F9EB-4262-A393-6FA44666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0EA00-3B80-4126-9FB6-0AE79ACE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C2535-24F0-4EB1-86F1-80C6FD12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EE1-D2E9-471C-B1F9-C0C0AE2D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FA156-F577-4888-AC57-D51329B8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50FD2-73E1-4B1F-94BB-DA9D617A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E7DD-7B0F-4757-B2A3-2D24781D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53E2-62D8-40DD-9A3A-F2D46B18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B389A-869B-493C-A99D-2366BA53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49A8A-79D8-4C34-9B29-B7FE2642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ABB7-4AE2-40EA-9051-52EE9542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DAC5F-12CB-442C-94E9-3D2DA352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4734C-F8BE-481D-9DBF-7DBAFE79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F9A43-1EB5-4F0D-940E-5C2A6227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7D7-9CCF-4F7E-AC10-3B2374D8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645A5-06CE-41A3-A8EA-60C16223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C343A-44FF-4F1D-B79D-02A862D0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CA2FB-146B-47CE-A4EB-6DB3AE85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ACA69-2BDE-48D2-90DD-4F5F21FC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0BD2A-D87E-4B8F-9AA3-D2F4EED1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6708E-9DB5-4726-9810-D6D80E90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0D163-9679-4C1C-9F6C-22F1AA4E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0B373-55A1-4488-9D25-786BDF4A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1445E-B6C5-460C-8729-0DB625F9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2644B-7795-4615-86E8-B477B98E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B4C-0CD0-4554-AC16-684CBB09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21B62-9E93-4024-8F69-F652E521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A43C6-EAFB-415C-B20B-77FFE29D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7D1B8-75F2-4E97-8072-1F15591E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E6CF6-C628-403A-A62B-C1639E9E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10C85-869B-4ADE-A5F6-D5FE7871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F0D3F-0A23-484A-89D4-56C42071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EC33A-5D36-4170-976A-53AF8CD7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74CB7-FC5F-4F32-AB87-FCE2903D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F5AFE-94FF-47DF-8ACC-C84C0FEF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B00C0-F66D-44F8-9C11-E8E03077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ECCE-CCD5-458B-9376-027B5C9B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AADC9-0842-411E-983D-0814BB7A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A8918-590D-49FD-ADF2-D66E1A11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F95E3-9B23-4314-9714-8D41C93C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4952D-9F64-4319-BB4F-BC61C4B2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D1EC2-7764-4D13-B939-51B65100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5109B-77AD-475A-AD88-FB495E58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D2D60-9A0E-469F-B6FA-4C1E5AD6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57C6C-E2E8-4160-A8B6-E8F2E3F9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1113F-FC31-47B0-BC1B-0FC3D92F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F8FA9-5B5B-4D92-BB4E-F742ADFE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8FA-8FD2-4E5B-B030-ED327A06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52A26-5D75-42F7-A5D8-BAE67BA6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BCBC1-5C41-4AC8-88FE-AF03F865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C20B5-2F80-4D2E-9FE9-FEB8FE1A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3464D-BC3B-4A69-81BC-D572F670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258BC-1210-4B3C-BA42-10A6FE57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580AE-0647-4367-931F-BDC89069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CCC68-798B-44C4-B7A9-62D39B75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EE39B-E74C-4166-8149-F46AD1D9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482EF-0892-4430-BF84-6184F86F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78748-94AC-4DF2-80D6-A945FB74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D04-C59D-4639-AB1C-03F201EE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84126-CFA7-4A68-8B43-EC46A375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F6361-EA84-4686-B0FC-EAD8F55C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CA1B5-E81E-4B9B-9A04-4C93BB1E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1BE9F-D387-4296-A8B1-4EC84E6A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A0E23-A28E-4214-B4B5-0836473C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9FD-18B6-4726-B5D6-DDD6E22A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67EC-47D3-4AD1-A109-506338DA8F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D9E9-84F3-4F02-B64F-AB8767D2D8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7602-3B07-4258-B2F0-D76522DDAA6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40B3-4747-4BA8-B21A-A8B319CC4AD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354E-A9BD-4E52-AE48-D7832559C7F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BD11-FDE5-49FE-AE95-2BB519C67BE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EC02-E946-4AB5-BAC1-E8CC98FEFE1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hotos.zamri.ru/avgustin/13822_dumu_dumaet_marina_fae9a_51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57.radikal.ru/i155/0810/a8/a64f4a7259ff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РЕДПРОФИЛЬНАЯ ПОДГОТОВКА УЧАЩИХСЯ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20e04"/>
                </a:solidFill>
                <a:latin typeface="Corbel"/>
              </a:rPr>
              <a:t>Родительское собрание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20e04"/>
                </a:solidFill>
                <a:latin typeface="Corbel"/>
              </a:rPr>
              <a:t>в 8 классе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Информационная работа и профильная ориентация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66320" y="148104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ассные часы - 9 часов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еклассные мероприятия - 3 час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бота по формированию портфолио  -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часа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бота с родителями - 2 часа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Picture 4" descr="\\192.168.1.1\документы\Обменник\Саламатова\Профессии\opr01Q48.gif"/>
          <p:cNvPicPr/>
          <p:nvPr/>
        </p:nvPicPr>
        <p:blipFill>
          <a:blip r:embed="rId1"/>
          <a:stretch/>
        </p:blipFill>
        <p:spPr>
          <a:xfrm>
            <a:off x="6019920" y="4330800"/>
            <a:ext cx="24382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урсы по выбору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90720" y="1481040"/>
            <a:ext cx="76960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втомобиль как продукт инженерии (6 ч.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Я – организатор (6 ч.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мпьютерная графика ( 6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оспитатель д\с 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ой дом (строитель) (6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вроотделка (12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изнес-школа (12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сновы дизайна одежды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сновы журналистики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Юридическая деятельность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изайн офисных и жилых помещений (12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вар, кондитер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одавец, контролер – кассир (12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арикмахер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1" name="Picture 4" descr="\\192.168.1.1\документы\Обменник\Саламатова\Профессии\203.gif"/>
          <p:cNvPicPr/>
          <p:nvPr/>
        </p:nvPicPr>
        <p:blipFill>
          <a:blip r:embed="rId1"/>
          <a:stretch/>
        </p:blipFill>
        <p:spPr>
          <a:xfrm>
            <a:off x="6324480" y="2133720"/>
            <a:ext cx="171468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4" descr="SCHOOLG.WMF"/>
          <p:cNvPicPr/>
          <p:nvPr/>
        </p:nvPicPr>
        <p:blipFill>
          <a:blip r:embed="rId1"/>
          <a:stretch/>
        </p:blipFill>
        <p:spPr>
          <a:xfrm>
            <a:off x="0" y="228600"/>
            <a:ext cx="2335320" cy="31669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жидаемые результаты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ознание  учащимися необходимости      сделать  выбор, желание попробовать себя в различных видах деятельност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владение  информацией о возможностях дальнейшего образования (уровни, виды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владение технологией «портфолио»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формирование родителей о целях и содержании предпрофильной подготовки учащихс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РЕДПРОФИЛЬНАЯ ПОДГОТОВКА В 9 КЛАССЕ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не менее 80 часов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3" descr="SOLDIER1.WMF"/>
          <p:cNvPicPr/>
          <p:nvPr/>
        </p:nvPicPr>
        <p:blipFill>
          <a:blip r:embed="rId1"/>
          <a:stretch/>
        </p:blipFill>
        <p:spPr>
          <a:xfrm>
            <a:off x="7086600" y="3048120"/>
            <a:ext cx="1906560" cy="38098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нформационная работ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ассные часы - 9 часов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еклассные мероприятия - 4 часа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бота по формированию портфолио - 3 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бота с родителями - 2 час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фильная ориентация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урс «Я и моя профессия» - 17,5 ч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Рисунок 5" descr="53.gif"/>
          <p:cNvPicPr/>
          <p:nvPr/>
        </p:nvPicPr>
        <p:blipFill>
          <a:blip r:embed="rId1"/>
          <a:stretch/>
        </p:blipFill>
        <p:spPr>
          <a:xfrm>
            <a:off x="6324480" y="2590920"/>
            <a:ext cx="188604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497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урсы по выбору</a:t>
            </a:r>
            <a:br>
              <a:rPr sz="39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едметные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урс «Говорим и пишем правильно» - 17,5 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урс «Вопросы русского языка за рамками школьного учебника» - 17, 5 ч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урс «Избранные вопросы математики» -17, 5 ч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урс «Научно-исследовательская деятельность» - 17,5 ч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5" name="Рисунок 3" descr="29.gif"/>
          <p:cNvPicPr/>
          <p:nvPr/>
        </p:nvPicPr>
        <p:blipFill>
          <a:blip r:embed="rId1"/>
          <a:stretch/>
        </p:blipFill>
        <p:spPr>
          <a:xfrm>
            <a:off x="6705720" y="4800600"/>
            <a:ext cx="212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урсы по выбору</a:t>
            </a:r>
            <a:br>
              <a:rPr sz="39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риентационные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142640" y="1480680"/>
            <a:ext cx="75438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втомобиль как продукт инженерии (6 ч.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Я – организатор (6 ч.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мпьютерная графика ( 6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оспитатель д\с 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ой дом (строитель) (6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вроотделка (12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изнес-школа (12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сновы дизайна одежды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сновы журналистики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Юридическая деятельность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изайн офисных и жилых помещений (12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вар, кондитер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одавец, контролер – кассир (12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арикмахер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4" descr="\\192.168.1.1\документы\Обменник\Саламатова\Профессии\198.gif"/>
          <p:cNvPicPr/>
          <p:nvPr/>
        </p:nvPicPr>
        <p:blipFill>
          <a:blip r:embed="rId1"/>
          <a:stretch/>
        </p:blipFill>
        <p:spPr>
          <a:xfrm>
            <a:off x="6400800" y="2514600"/>
            <a:ext cx="198108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жидаемый результат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ение учащимися своей образовательной траектории после окончания 9 класс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владение учащимися технологией «портфоли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5" descr="http://im2-tub.yandex.net/i?id=53302469&amp;tov=2"/>
          <p:cNvPicPr/>
          <p:nvPr/>
        </p:nvPicPr>
        <p:blipFill>
          <a:blip r:embed="rId1"/>
          <a:stretch/>
        </p:blipFill>
        <p:spPr>
          <a:xfrm>
            <a:off x="4952880" y="3584520"/>
            <a:ext cx="3657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ЗАЧЕТНАЯ КНИЖКА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ащихся 8-9 классов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КЕМ БЫТЬ?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2" name="Picture 2" descr="Картинка 14 из 480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20040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066680" y="914400"/>
          <a:ext cx="6772320" cy="4214880"/>
        </p:xfrm>
        <a:graphic>
          <a:graphicData uri="http://schemas.openxmlformats.org/drawingml/2006/table">
            <a:tbl>
              <a:tblPr/>
              <a:tblGrid>
                <a:gridCol w="6772320"/>
              </a:tblGrid>
              <a:tr h="330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ЧЕТНАЯ КНИЖ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_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редпрофильной подготовк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Чайковск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523880" y="1295280"/>
          <a:ext cx="6467760" cy="4276800"/>
        </p:xfrm>
        <a:graphic>
          <a:graphicData uri="http://schemas.openxmlformats.org/drawingml/2006/table">
            <a:tbl>
              <a:tblPr/>
              <a:tblGrid>
                <a:gridCol w="1668600"/>
                <a:gridCol w="2411280"/>
                <a:gridCol w="1370160"/>
                <a:gridCol w="1017720"/>
              </a:tblGrid>
              <a:tr h="46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Rectangle 2"/>
          <p:cNvSpPr/>
          <p:nvPr/>
        </p:nvSpPr>
        <p:spPr>
          <a:xfrm>
            <a:off x="3147480" y="821880"/>
            <a:ext cx="284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формационная 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Таблица 1" descr=""/>
          <p:cNvPicPr/>
          <p:nvPr/>
        </p:nvPicPr>
        <p:blipFill>
          <a:blip r:embed="rId1"/>
          <a:stretch/>
        </p:blipFill>
        <p:spPr>
          <a:xfrm>
            <a:off x="1225440" y="920880"/>
            <a:ext cx="6650280" cy="41446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"/>
          <p:cNvSpPr/>
          <p:nvPr/>
        </p:nvSpPr>
        <p:spPr>
          <a:xfrm>
            <a:off x="2354040" y="44064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Краткосрочные ориентационные кур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Таблица 1" descr=""/>
          <p:cNvPicPr/>
          <p:nvPr/>
        </p:nvPicPr>
        <p:blipFill>
          <a:blip r:embed="rId1"/>
          <a:stretch/>
        </p:blipFill>
        <p:spPr>
          <a:xfrm>
            <a:off x="768240" y="689040"/>
            <a:ext cx="7229520" cy="465768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1"/>
          <p:cNvSpPr/>
          <p:nvPr/>
        </p:nvSpPr>
        <p:spPr>
          <a:xfrm>
            <a:off x="3387960" y="288360"/>
            <a:ext cx="236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Предметные к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1066680" y="1143000"/>
          <a:ext cx="6782040" cy="3736800"/>
        </p:xfrm>
        <a:graphic>
          <a:graphicData uri="http://schemas.openxmlformats.org/drawingml/2006/table">
            <a:tbl>
              <a:tblPr/>
              <a:tblGrid>
                <a:gridCol w="479520"/>
                <a:gridCol w="1287360"/>
                <a:gridCol w="2257560"/>
                <a:gridCol w="1611360"/>
                <a:gridCol w="1146240"/>
              </a:tblGrid>
              <a:tr h="42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Rectangle 1"/>
          <p:cNvSpPr/>
          <p:nvPr/>
        </p:nvSpPr>
        <p:spPr>
          <a:xfrm>
            <a:off x="0" y="551520"/>
            <a:ext cx="91440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Благодарности и поощ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ОРТФОЛИО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ПАПКА ДОСТИЖЕНИЙ УЧАЩЕГОС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Картинка 16 из 625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971800" cy="2378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ртфолио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комплект документов, представляющий совокупность сертифицированных или несертифицированных индивидуальных достижений, который является основой для определения образовательного рейтинга выпускника основной школ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еимущества портфолио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теграция количественной и качественной оценок деятельности учащихс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мещение акцента с того, что учащийся не знает и не умеет на то, что он знает и умее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оритет самооценки перед оценко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ртфолио может помоч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олее точно оценить свои успех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олее четко спланировать дальнейшее обучение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олее грамотно показать свои достижен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Рисунок 4" descr="WIZARD.WMF"/>
          <p:cNvPicPr/>
          <p:nvPr/>
        </p:nvPicPr>
        <p:blipFill>
          <a:blip r:embed="rId1"/>
          <a:stretch/>
        </p:blipFill>
        <p:spPr>
          <a:xfrm>
            <a:off x="4800600" y="3733920"/>
            <a:ext cx="41911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менение портфолио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 выборе профиля обучения в старших классах общеобразовательной школы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 поступлении в вуз как дополни­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льный материал при собеседовани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 устройстве на работу как свидетельство практического опыта, социальных практи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 шаг. Самонаблюден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ение своих профессиональных интересов и склонносте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ценка профессионально важных качеств, состояния здоровья, способносте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менение портфолио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9072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переходе в новую школу, учебную группу, к новому преподавателю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дставить себя новым людям 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мочь им быстрее понять тебя с помощью материалов, собранных в портфолио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собеседовании и презентации, например при поступлении в вуз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уктурировать свое выступление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авильно изложить свою мысль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дтвердить сказанное примерами из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дставленных материалов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7" name="Рисунок 3" descr="42.gif"/>
          <p:cNvPicPr/>
          <p:nvPr/>
        </p:nvPicPr>
        <p:blipFill>
          <a:blip r:embed="rId1"/>
          <a:stretch/>
        </p:blipFill>
        <p:spPr>
          <a:xfrm>
            <a:off x="7238880" y="44197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РОЛЬ РОДИТЕЛЕЙ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e04"/>
                </a:solidFill>
                <a:latin typeface="Corbel"/>
              </a:rPr>
              <a:t>в предпрофильной подготовке учащихс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Рисунок 8" descr="STUDENT.WMF"/>
          <p:cNvPicPr/>
          <p:nvPr/>
        </p:nvPicPr>
        <p:blipFill>
          <a:blip r:embed="rId1"/>
          <a:stretch/>
        </p:blipFill>
        <p:spPr>
          <a:xfrm>
            <a:off x="6095880" y="2819520"/>
            <a:ext cx="2944800" cy="3735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990720" y="380520"/>
            <a:ext cx="79437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накомство с миром професси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мощь в оценке профессионально важных качеств, состояния здоровья, способносте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мощь в заполнении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ртфоли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держка подростка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его выбор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6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2 шаг. Сбор и оценка информации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профессии и содержании труд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возможностях трудоустройств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перспектива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 обучени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предприятия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3 шаг. Принятие решения  и планирование достижения цели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ение цел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ение средств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ение вариантов (основной и запасной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ценка возможностей каждого вариант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суждение решения с авторитетным человеко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нятие решен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3" descr="FIREMAN.WMF"/>
          <p:cNvPicPr/>
          <p:nvPr/>
        </p:nvPicPr>
        <p:blipFill>
          <a:blip r:embed="rId1"/>
          <a:stretch/>
        </p:blipFill>
        <p:spPr>
          <a:xfrm>
            <a:off x="6477120" y="4114800"/>
            <a:ext cx="2484360" cy="254484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едпрофильная подготов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294920"/>
            <a:ext cx="7251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система деятельности, содействующая самоопределению учащихся основной школы относительно избираемых ими профилирующих направлений будущего обучения и широкой сферы последующей профессиональной деятельности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формирование готовности выпускников основной школы ответственно осуществлять выбор дальнейшей образовательной траектории, соответствующей их способностям и интересам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оздание условий для формирования адекватной самооценки учащихся через овладение технологией «Портфолио»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асширение возможностей социализации учащихся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правления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cxnSp>
        <p:nvCxnSpPr>
          <p:cNvPr id="335" name="Прямая со стрелкой 7"/>
          <p:cNvCxnSpPr/>
          <p:nvPr/>
        </p:nvCxnSpPr>
        <p:spPr>
          <a:xfrm>
            <a:off x="5562720" y="1218960"/>
            <a:ext cx="762480" cy="881640"/>
          </a:xfrm>
          <a:prstGeom prst="straightConnector1">
            <a:avLst/>
          </a:prstGeom>
          <a:ln w="572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6" name="Прямая со стрелкой 9"/>
          <p:cNvCxnSpPr/>
          <p:nvPr/>
        </p:nvCxnSpPr>
        <p:spPr>
          <a:xfrm flipH="1">
            <a:off x="2513880" y="1294920"/>
            <a:ext cx="762840" cy="839160"/>
          </a:xfrm>
          <a:prstGeom prst="straightConnector1">
            <a:avLst/>
          </a:prstGeom>
          <a:ln w="572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7" name="Прямая со стрелкой 11"/>
          <p:cNvCxnSpPr/>
          <p:nvPr/>
        </p:nvCxnSpPr>
        <p:spPr>
          <a:xfrm flipH="1">
            <a:off x="4419360" y="1295280"/>
            <a:ext cx="2160" cy="915120"/>
          </a:xfrm>
          <a:prstGeom prst="straightConnector1">
            <a:avLst/>
          </a:prstGeom>
          <a:ln w="5724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8" name="Прямоугольник 12"/>
          <p:cNvSpPr/>
          <p:nvPr/>
        </p:nvSpPr>
        <p:spPr>
          <a:xfrm>
            <a:off x="685800" y="2438280"/>
            <a:ext cx="2514600" cy="1067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ИНФОРМАЦИОН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3"/>
          <p:cNvSpPr/>
          <p:nvPr/>
        </p:nvSpPr>
        <p:spPr>
          <a:xfrm>
            <a:off x="3352680" y="2438280"/>
            <a:ext cx="2210040" cy="1067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ОФИЛЬНАЯ ОРИ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5"/>
          <p:cNvSpPr/>
          <p:nvPr/>
        </p:nvSpPr>
        <p:spPr>
          <a:xfrm>
            <a:off x="5715000" y="2438280"/>
            <a:ext cx="2514600" cy="1067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УРСЫ ПО ВЫБ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7"/>
          <p:cNvSpPr/>
          <p:nvPr/>
        </p:nvSpPr>
        <p:spPr>
          <a:xfrm>
            <a:off x="685800" y="3733920"/>
            <a:ext cx="2438280" cy="2133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лассные ч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неклассные 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Работа с портфол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Работа 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9"/>
          <p:cNvSpPr/>
          <p:nvPr/>
        </p:nvSpPr>
        <p:spPr>
          <a:xfrm>
            <a:off x="3276720" y="3733920"/>
            <a:ext cx="2286000" cy="2133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лассные ч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урс «Я и моя профессия» 9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0"/>
          <p:cNvSpPr/>
          <p:nvPr/>
        </p:nvSpPr>
        <p:spPr>
          <a:xfrm>
            <a:off x="5715000" y="3733920"/>
            <a:ext cx="2514600" cy="2133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Ориент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РЕДПРОФИЛЬНАЯ ПОДГОТОВКА В 8 КЛАССЕ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не менее 25 часов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ламатоваТВ</cp:lastModifiedBy>
  <dcterms:modified xsi:type="dcterms:W3CDTF">2009-12-23T12:32:5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