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BFF5-42CC-4993-92B1-57B1554D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912-4F06-41C0-829E-F44B417B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BBC-3FD3-4604-A111-F695747E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B61-D8D9-41F9-AE8C-B83A821C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0321-435F-4D43-B145-D005FED8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FED2-A96A-4DEF-8F4A-A510CE51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AEF7-DBD7-47FA-807E-CB8ABFA0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82C6-7CED-461C-B569-6A4D7F45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11A8-5102-45BA-9537-73FAACBB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023B-9C33-4952-BA24-19CEF9DA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9569-581A-4360-B6BB-12ED96D1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F72-F734-48E4-A9D9-9269FFF6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C915-EA61-4BF2-B90F-FC9B6A9A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FB0F-E501-4040-A463-51C56FAD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362F-7D60-4356-894B-BAA02E81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E773-AAE7-4630-9272-627009B9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37F9-F970-438D-8A3E-10D4C853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42B4B-235E-436D-9038-AE698C2C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D0A52-9761-49F7-B109-96A031D2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C31A0-4D4D-48E7-8DB0-5118711E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5A0FA-5663-40E9-8F79-C35413DF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FC018-3EF6-461C-BAC9-78DD7545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6DB-B79D-41AF-BBFA-1C00A329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73799-6421-41EA-8C6C-8CDC1898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907C2-7999-446D-8B41-A7EE7C4B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8FC78-51A9-4B3E-B1EE-6DFE517A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BED57-C9AF-4838-A020-FD77C688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C9104-4CCC-4770-9E69-C84147D4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0942F-24F8-418C-9AD6-0A2F8B82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906A7-CE33-402F-A0FB-38FCB559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C8F1F-1D59-496C-AE66-D233230F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A4EE5-370E-4949-8EF7-BAFE76B2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37F6A-994F-495A-873B-B323D12F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E92-ECFF-4FD6-B356-A066E661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F0568-4C49-484E-8841-3DF8BBBE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22627-C4B1-4DB9-AF1B-EE7EB9B0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20F07-7AEB-49E1-A43E-67608A97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1DD9E-BAC1-4219-A9DE-F2210E78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07F25-A012-45BA-91E6-98C69CAA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3071C-F0BD-46CB-9F94-B6DDF995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DC703-CB73-4AC6-81E9-23665749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0EA4D-7D81-49F9-B47E-DB545BAC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CD793-E09A-44F0-A86B-D184B9C0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7D025-CC18-40C6-968A-10B98C37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04C-2844-4309-8365-28568443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1548C-AEC3-4995-B815-C2B50719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DDB39-8B9D-4A79-9BAB-7F0F0078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A41FE-8F15-4C7A-86F7-63B477EA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A3EAA-06AB-43A0-8FE4-F6737D7F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5B357-673D-4249-8EFE-6982B0E6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B27B1-81F7-44D2-B397-7E6C3125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1C667-95C8-4CA9-8958-6B45E5BF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D9297-61C4-4C05-AC2E-2FC07FF1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95065-E995-4701-9DEE-4F43B83C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7B073-054D-460D-8BF6-E50980F6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3B4-A6E5-4369-ABA5-893D6034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D3D12-120F-452D-AAD2-C210CCA8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D9A53-97CE-4A07-9BA2-1E2E4D8A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267A4-C3D4-402D-BFB3-CE0A070C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903FE-411E-4E80-9AEF-5D2027C0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6AF7B-F08D-4169-9F3C-0296E8BA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502A1-20A6-4CF8-AFBC-959E37F0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50A7C-40F1-47A8-A81F-CB2F6EF5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BB511-8936-4513-BDB4-6212D580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04D20-8EDE-4678-9DB6-9854C523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07150-B184-4F23-A0AF-F50B9727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60B-A84D-46F5-B435-FE4D6709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CC63E-14FC-496D-81FC-417EACD8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671F9-708F-4A38-B722-4D75A5D3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4D596-0E93-4616-9295-BF7D9EB0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45C3F-8F21-4C70-A329-F911F566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6AACE-FD36-4FC0-9729-6DDD056E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F1443-C35E-47B4-B7ED-48C69005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AA310-C244-4722-9085-47DEFF5A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51FF9-8323-4929-9775-C660F95E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34F1A-DABB-4E04-A4CF-10134779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CD1EB-09C0-4C5B-9562-0ABAF161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BE4-57B7-499A-9B11-AF754A5B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E59AF-B114-4FA2-A51A-30C9F61F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B2B05-3C17-4705-9F78-40EF8C0B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B3DF9-C45D-48DD-AA3F-1A1AA63F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6F4F8-0350-43E0-81D7-1886327A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019F2-9D85-4319-B866-CF5885DB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3AE-7A7A-485E-9187-BBFE187A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E632-1962-433A-A79C-7EE61F5226D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C7C6-14EF-4302-BAE4-D0AE7D62317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03B4-C767-4E84-8D06-1051947B55C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0429-8604-4256-BEFE-9CA20B26650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BF19-0C96-4249-8CF2-94AFB8761BD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8FF3-6101-4160-8AF6-CC948B486FC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7A5F-9E8E-4AB6-AFCE-238EAA5731E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407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Планирование воспитательной работы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4038120"/>
            <a:ext cx="7407000" cy="76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0e04"/>
                </a:solidFill>
                <a:latin typeface="Corbel"/>
              </a:rPr>
              <a:t>2009-2010 учебный год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Начальная школа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837720"/>
            <a:ext cx="7499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 кл. – Я и моя школа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адаптация первоклассников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кл. – Какой я? Какой ты?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коммуникативные навыки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кл. – Мои интересы и возможности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познавательная сфера, интересы, мотивация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 кл. – Я расту, я изменяюсь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«первые шаги» в самопознании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реднее звено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 кл. – Познай себя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самопознание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 кл. – Сделай себя сам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самовоспитание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кл. – Научи себя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учиться(самообучение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 кл. – Утверждай себя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самоутверждение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кл. – Найди себя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самоактуализация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таршая школ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0 кл. – Управляй собой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саморегуляция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1 кл. Реализуй себя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самоактуализация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. Планируемый результат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2209320"/>
            <a:ext cx="7499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дель учащихся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дель классного коллектив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дель взаимодействия с родителям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4. Комплекс дел по достижению цели и задач (планирование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бота с учащимис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дивидуальна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ив класс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ассные час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нкретные дел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4. Комплекс дел по достижению цели и задач (планирование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бота с родителям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дивидуальна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одительский комите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матика родительских собраний (не менее 4 собраний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токолы родительских собрани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ивность родителе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4. Комплекс дел по достижению цели и задач (планирование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2209320"/>
            <a:ext cx="7499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бота с учителями- предметникам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5. Диагности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менения в развитии качеств личности учащихся, коллектив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йтинг класс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ивность учащихс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ивность родителе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тоды: наблюдение, беседа, опрос, анкетирование, тестировани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0" y="2133720"/>
            <a:ext cx="685800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ОСНОВНЫЕ НАПРАВЛЕНИЯ </a:t>
            </a: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ВОСПИТАТЕЛЬНОЙ РАБОТЫ ШКОЛЫ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Гражданско-правовое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65 лет Победы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нтеллектуально-познавательное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проектная и исследовательская деятельность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портивно-оздоровительно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ЦЕЛЕПОЛАГАНИЕ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ект «Наша новая школа»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2590920"/>
            <a:ext cx="7499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ирование инициативной личности, способной творчески мыслить и находить нестандартные  решения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ь ВР школы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ние среды для развития индивидуальных способностей, культурно-образовательных потребностей, жизненных планов и социально-профессиональных ориентаций учащихс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ть условия для развития интеллектуальных, познавательных и творческих способностей учащихс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особствовать развитию самостоятельности, инициативы, самотворчества в школе, повышению роли ученического самоуправления в планировании, организации и анализе жизнедеятельности школ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47560" y="1447920"/>
            <a:ext cx="7497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ть условия для сохранения и укрепления физического и психического здоровья учащихс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рганизовать эффективное взаимодействие семьи и школы через систему информирования и обучения родителей, привлечения их к активному участию в жизнедеятельности школ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77960" y="2057400"/>
            <a:ext cx="6400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ТРЕБОВАНИЯ К ПЛАНАМ ВОСПИТАТЕЛЬНОЙ РАБОТЫ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. Анализ работы за предыдущий год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2361960"/>
            <a:ext cx="749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арактеристика класса/ социальный паспорт класс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нализ ВР с классо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стижения коллектив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блемы и их причин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спектив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. Цели и задачи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ответствуют целям и задачам ВР школ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ходят из особенностей классного коллектив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ально достижим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ответствуют направлениям развития личности по классам (1-11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ламатоваТВ</cp:lastModifiedBy>
  <dcterms:modified xsi:type="dcterms:W3CDTF">2010-02-16T07:41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